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</p:sldIdLst>
  <p:sldSz cx="9907588" cy="6858000"/>
  <p:notesSz cx="6772275" cy="9902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771600" cy="990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3364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5"/>
          </p:nvPr>
        </p:nvSpPr>
        <p:spPr>
          <a:xfrm>
            <a:off x="3838320" y="0"/>
            <a:ext cx="293364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704880" y="743040"/>
            <a:ext cx="5364000" cy="3713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02880" y="4703760"/>
            <a:ext cx="50418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6"/>
          </p:nvPr>
        </p:nvSpPr>
        <p:spPr>
          <a:xfrm>
            <a:off x="-360" y="9407520"/>
            <a:ext cx="2933640" cy="49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7"/>
          </p:nvPr>
        </p:nvSpPr>
        <p:spPr>
          <a:xfrm>
            <a:off x="3838320" y="9407520"/>
            <a:ext cx="2933640" cy="49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DF158FF-30D2-4838-8AA2-E24A4E365C21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704880" y="762120"/>
            <a:ext cx="5361120" cy="37116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02880" y="4702320"/>
            <a:ext cx="5041800" cy="44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3560" y="4794120"/>
            <a:ext cx="5432400" cy="48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1) TA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untersucht die sozialen, ökologischen und wirtschaftlichen Auswirkungen von neuen technologischen Verfahren und Produkten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Wichtig an dieser Definition sind die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verschiedenen Dimension, die berücksichtig werden.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Das fördert ein interdiziplinär Ansat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Auch wichtig an dieser Definition ist, dass wir nicht nur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Technologien als Produkt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betrachten (zum Beispiel ein Super-Computer), sondern auch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technologischen Verfahren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(zum Beispiel Datensammlung und Datenauswertung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Cl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2) TA befasst sich mit den verschiedenen Interessen und Sichtweisen (von Experten, Entscheidungsträger, betroffenen Gruppen etc.)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In anderen Worten, TA ist umfassend und betrachtet ein Problem aus verschiedenen Sichtwinkel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706320" y="743040"/>
            <a:ext cx="5359680" cy="37098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02880" y="4700160"/>
            <a:ext cx="5041800" cy="445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2) Mit dem Schwerpunktthema « Informationsgesellschaft » thematisiert und untersucht das ZTA die positiven und negativen Folgen der zunehmenden Informatisierung der Gesellschaf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706320" y="743040"/>
            <a:ext cx="5361120" cy="37116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02880" y="4702320"/>
            <a:ext cx="5041800" cy="44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1) Die prioritäre Aufgabe des ZTA ist es, die politischen Entscheidungsträger zu berate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Ziel ist auch, die öffentliche Diskussion anzuregen, insbesondere durch die Medie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2) Unsere Projekte entsprechen den Schwerpunkte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- Life scienc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- Informationsgesellschaft un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- Mobilität und Energi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3) Meistens machen wir TA-Studien (wie zum Beispiel die heutige Studie über den gläsernen Kunden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Aber wir machen auch partizipative Projekte, wie das PubliForu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990360"/>
            <a:ext cx="8915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25905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5000" y="46206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95000" y="990360"/>
            <a:ext cx="8915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95000" y="25905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3400" y="25905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95000" y="46206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3400" y="46206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95000" y="990360"/>
            <a:ext cx="8915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95000" y="25905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09640" y="25905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524280" y="25905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95000" y="46206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09640" y="46206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524280" y="46206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683D4E-179C-440B-9019-998765120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95000" y="990360"/>
            <a:ext cx="8915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95000" y="25905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94B97B-AF66-466C-8772-22EACEADD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95000" y="990360"/>
            <a:ext cx="8915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95000" y="25905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6A5082-67B2-4C56-BEF2-C06133051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95000" y="990360"/>
            <a:ext cx="8915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95000" y="25905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63400" y="25905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2A3A5C-FD8B-4584-BE29-9646BB787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95000" y="990360"/>
            <a:ext cx="8915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EB9FC8-224B-4A85-B067-123584E5E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95000" y="990360"/>
            <a:ext cx="8915400" cy="67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52AF4A-6B99-48B4-A4BA-79E50B58F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95000" y="990360"/>
            <a:ext cx="8915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95000" y="25905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63400" y="25905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95000" y="46206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F27B72-9D36-4F18-A286-B6A002B11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95000" y="990360"/>
            <a:ext cx="8915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95000" y="25905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95000" y="990360"/>
            <a:ext cx="8915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95000" y="25905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63400" y="25905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63400" y="46206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022C88-5A0F-4BFF-BA95-1556D062E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95000" y="990360"/>
            <a:ext cx="8915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95000" y="25905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63400" y="25905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95000" y="46206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841D6E-FE99-4069-A5BE-7DAA63568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95000" y="990360"/>
            <a:ext cx="8915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95000" y="25905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5000" y="46206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D0DB8A-C607-4646-973A-6FD4133EB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95000" y="990360"/>
            <a:ext cx="8915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95000" y="25905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3400" y="25905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95000" y="46206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63400" y="46206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E4D2FD-1F07-4454-AD41-7BA0DE7F8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95000" y="990360"/>
            <a:ext cx="8915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95000" y="25905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09640" y="25905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524280" y="25905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5000" y="46206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509640" y="46206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524280" y="46206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B54D6D-5BDE-47A8-87D1-942942E77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95000" y="990360"/>
            <a:ext cx="8915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95000" y="25905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990360"/>
            <a:ext cx="8915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95000" y="25905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3400" y="25905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95000" y="990360"/>
            <a:ext cx="8915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95000" y="990360"/>
            <a:ext cx="8915400" cy="67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95000" y="990360"/>
            <a:ext cx="8915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95000" y="25905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3400" y="25905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5000" y="46206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95000" y="990360"/>
            <a:ext cx="8915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95000" y="25905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3400" y="25905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3400" y="46206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95000" y="990360"/>
            <a:ext cx="8915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95000" y="25905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3400" y="25905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5000" y="46206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95360" y="304920"/>
            <a:ext cx="8915400" cy="533160"/>
          </a:xfrm>
          <a:prstGeom prst="rect">
            <a:avLst/>
          </a:prstGeom>
          <a:solidFill>
            <a:srgbClr val="ff86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95000" y="990360"/>
            <a:ext cx="8915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95000" y="25905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ff9e2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ff8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75"/>
              </a:spcBef>
              <a:buClr>
                <a:srgbClr val="ff8601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75"/>
              </a:spcBef>
              <a:buClr>
                <a:srgbClr val="ff8601"/>
              </a:buClr>
              <a:buSzPct val="90000"/>
              <a:buFont typeface="Wingdings" charset="2"/>
              <a:buChar char="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75"/>
              </a:spcBef>
              <a:buClr>
                <a:srgbClr val="ff8601"/>
              </a:buClr>
              <a:buSzPct val="125000"/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75"/>
              </a:spcBef>
              <a:buClr>
                <a:srgbClr val="000000"/>
              </a:buClr>
              <a:buSzPct val="125000"/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75"/>
              </a:spcBef>
              <a:buClr>
                <a:srgbClr val="000000"/>
              </a:buClr>
              <a:buSzPct val="125000"/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495360" y="6477120"/>
            <a:ext cx="5829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146320" y="304920"/>
            <a:ext cx="45403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49680" y="1908000"/>
            <a:ext cx="8971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TA-SWISS bold Kopie" descr=""/>
          <p:cNvPicPr/>
          <p:nvPr/>
        </p:nvPicPr>
        <p:blipFill>
          <a:blip r:embed="rId2"/>
          <a:stretch/>
        </p:blipFill>
        <p:spPr>
          <a:xfrm>
            <a:off x="8915400" y="304920"/>
            <a:ext cx="533520" cy="53316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311960" y="6248520"/>
            <a:ext cx="221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Arial"/>
              </a:rPr>
              <a:t>www.ta-swiss.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42680" y="1828440"/>
            <a:ext cx="84200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2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E6C6F-A60A-472D-BC68-1E34F513A626}" type="datetime"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26/0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3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4"/>
          </p:nvPr>
        </p:nvSpPr>
        <p:spPr>
          <a:xfrm>
            <a:off x="7098840" y="6248520"/>
            <a:ext cx="2476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05132-BC39-467E-B43C-251A0DF0AF5C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066680"/>
            <a:ext cx="9220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Participatory Technology Assessment:</a:t>
            </a:r>
            <a:br>
              <a:rPr sz="3800"/>
            </a:br>
            <a:r>
              <a:rPr b="1" lang="en-GB" sz="3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800"/>
            </a:b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A Bridge between Science and Socie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14040" y="4572000"/>
            <a:ext cx="76201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33520"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Arial"/>
              </a:rPr>
              <a:t>by 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433520"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Arial"/>
              </a:rPr>
              <a:t>Dr. Sergio Bellucci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433520"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Arial"/>
              </a:rPr>
              <a:t>Director TA-SWISS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orkshop on Institutionalization of Participatory Advisory System, Tokyo 24th, 25th June 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8915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000000"/>
                </a:solidFill>
                <a:latin typeface="Arial"/>
              </a:rPr>
              <a:t>TA highlights in the pa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16080" y="1709640"/>
            <a:ext cx="4179600" cy="2633760"/>
          </a:xfrm>
          <a:prstGeom prst="roundRect">
            <a:avLst>
              <a:gd name="adj" fmla="val 16667"/>
            </a:avLst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28600" y="1676520"/>
            <a:ext cx="4191120" cy="2557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28600" y="1676520"/>
            <a:ext cx="4114800" cy="296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5120" indent="-19512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Life Sci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5120" indent="-19512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A-study  «Functional Food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5120" indent="-19512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A-study «Human stem cells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5120" indent="-19512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A-study  «Xenotransplantation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5120" indent="-19512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A-study «Gene therapy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5120" indent="-19512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A-study  «Nanotechnology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5120" indent="-19512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4583160" y="1905120"/>
            <a:ext cx="5181120" cy="2206080"/>
            <a:chOff x="4583160" y="1905120"/>
            <a:chExt cx="5181120" cy="2206080"/>
          </a:xfrm>
        </p:grpSpPr>
        <p:sp>
          <p:nvSpPr>
            <p:cNvPr id="117" name=""/>
            <p:cNvSpPr/>
            <p:nvPr/>
          </p:nvSpPr>
          <p:spPr>
            <a:xfrm>
              <a:off x="4705200" y="1994400"/>
              <a:ext cx="5058720" cy="211680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83160" y="1905120"/>
              <a:ext cx="5093640" cy="21168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671000" y="1916640"/>
              <a:ext cx="5093280" cy="212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95120" indent="-195120"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Arial"/>
                </a:rPr>
                <a:t>Information Societ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5120" indent="-195120">
                <a:lnSpc>
                  <a:spcPct val="100000"/>
                </a:lnSpc>
                <a:spcBef>
                  <a:spcPts val="1125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TA-study «Computer-based Patient Records»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5120" indent="-195120">
                <a:lnSpc>
                  <a:spcPct val="100000"/>
                </a:lnSpc>
                <a:spcBef>
                  <a:spcPts val="1125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TA-study «The Transparent Customer»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5120" indent="-195120">
                <a:lnSpc>
                  <a:spcPct val="100000"/>
                </a:lnSpc>
                <a:spcBef>
                  <a:spcPts val="1125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TA-study «Pervasive Computing»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5120" indent="-195120">
                <a:lnSpc>
                  <a:spcPct val="100000"/>
                </a:lnSpc>
                <a:spcBef>
                  <a:spcPts val="1125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TA-book «Internet - Schöne neue Welt»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5334120" y="4419720"/>
            <a:ext cx="3809160" cy="1523160"/>
            <a:chOff x="5334120" y="4419720"/>
            <a:chExt cx="3809160" cy="1523160"/>
          </a:xfrm>
        </p:grpSpPr>
        <p:sp>
          <p:nvSpPr>
            <p:cNvPr id="121" name=""/>
            <p:cNvSpPr/>
            <p:nvPr/>
          </p:nvSpPr>
          <p:spPr>
            <a:xfrm>
              <a:off x="5414760" y="4479840"/>
              <a:ext cx="3728520" cy="146304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334120" y="4419720"/>
              <a:ext cx="3728160" cy="14630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" name=""/>
          <p:cNvSpPr/>
          <p:nvPr/>
        </p:nvSpPr>
        <p:spPr>
          <a:xfrm>
            <a:off x="5486400" y="4495680"/>
            <a:ext cx="3505320" cy="11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5120" indent="-19512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Mo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5120" indent="-19512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A-study „Technology Assessment and Transport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33520" y="4419720"/>
            <a:ext cx="4723560" cy="2285280"/>
            <a:chOff x="533520" y="4419720"/>
            <a:chExt cx="4723560" cy="2285280"/>
          </a:xfrm>
        </p:grpSpPr>
        <p:grpSp>
          <p:nvGrpSpPr>
            <p:cNvPr id="125" name=""/>
            <p:cNvGrpSpPr/>
            <p:nvPr/>
          </p:nvGrpSpPr>
          <p:grpSpPr>
            <a:xfrm>
              <a:off x="533520" y="4419720"/>
              <a:ext cx="4723560" cy="2285280"/>
              <a:chOff x="533520" y="4419720"/>
              <a:chExt cx="4723560" cy="2285280"/>
            </a:xfrm>
          </p:grpSpPr>
          <p:sp>
            <p:nvSpPr>
              <p:cNvPr id="126" name=""/>
              <p:cNvSpPr/>
              <p:nvPr/>
            </p:nvSpPr>
            <p:spPr>
              <a:xfrm>
                <a:off x="633960" y="4511160"/>
                <a:ext cx="4623120" cy="2193840"/>
              </a:xfrm>
              <a:prstGeom prst="roundRect">
                <a:avLst>
                  <a:gd name="adj" fmla="val 16667"/>
                </a:avLst>
              </a:prstGeom>
              <a:solidFill>
                <a:srgbClr val="80808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533520" y="4419720"/>
                <a:ext cx="4623120" cy="219384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8" name=""/>
            <p:cNvSpPr/>
            <p:nvPr/>
          </p:nvSpPr>
          <p:spPr>
            <a:xfrm>
              <a:off x="533520" y="4511160"/>
              <a:ext cx="4475520" cy="198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95120" indent="-195120"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Arial"/>
                </a:rPr>
                <a:t>participatory T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5120" indent="-195120">
                <a:lnSpc>
                  <a:spcPct val="100000"/>
                </a:lnSpc>
                <a:spcBef>
                  <a:spcPts val="1125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PubliForum «Transplantation Medicine»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5120" indent="-195120">
                <a:lnSpc>
                  <a:spcPct val="100000"/>
                </a:lnSpc>
                <a:spcBef>
                  <a:spcPts val="1125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PubliForum «Genetic Engineering and Nutrition»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5120" indent="-195120">
                <a:lnSpc>
                  <a:spcPct val="100000"/>
                </a:lnSpc>
                <a:spcBef>
                  <a:spcPts val="1125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publifocus «Human stem cells»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orkshop on Institutionalization of Participatory Advisory System, Tokyo 24th, 25th June 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915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000000"/>
                </a:solidFill>
                <a:latin typeface="Arial"/>
              </a:rPr>
              <a:t>Criteria for Selecting Topic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915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188"/>
              </a:spcBef>
              <a:buClr>
                <a:srgbClr val="ff9e2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Arial"/>
              </a:rPr>
              <a:t>Relevance, in view of: </a:t>
            </a:r>
            <a:r>
              <a:rPr b="0" lang="de-DE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500" spc="-1" strike="noStrike">
                <a:solidFill>
                  <a:srgbClr val="000000"/>
                </a:solidFill>
                <a:latin typeface="Arial"/>
              </a:rPr>
              <a:t>- pending political decisions</a:t>
            </a:r>
            <a:br>
              <a:rPr sz="2500"/>
            </a:br>
            <a:r>
              <a:rPr b="0" lang="de-DE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500" spc="-1" strike="noStrike">
                <a:solidFill>
                  <a:srgbClr val="000000"/>
                </a:solidFill>
                <a:latin typeface="Arial"/>
              </a:rPr>
              <a:t>- current research activities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88"/>
              </a:spcBef>
              <a:buClr>
                <a:srgbClr val="ff9e2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Arial"/>
              </a:rPr>
              <a:t>Degree of controversy involved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88"/>
              </a:spcBef>
              <a:buClr>
                <a:srgbClr val="ff9e2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Arial"/>
              </a:rPr>
              <a:t>Impact (number of people affected) of the probable consequences of a given technology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88"/>
              </a:spcBef>
              <a:buClr>
                <a:srgbClr val="ff9e2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Arial"/>
              </a:rPr>
              <a:t>Availability of foreign studies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361"/>
              </a:spcBef>
              <a:buClr>
                <a:srgbClr val="ff9e2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Arial"/>
              </a:rPr>
              <a:t>Possible synergies with other activities of scientific or administrative</a:t>
            </a:r>
            <a:r>
              <a:rPr b="0" lang="de-DE" sz="2700" spc="-1" strike="noStrike">
                <a:solidFill>
                  <a:srgbClr val="000000"/>
                </a:solidFill>
                <a:latin typeface="Arial"/>
              </a:rPr>
              <a:t> bodies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orkshop on Institutionalization of Participatory Advisory System, Tokyo 24th, 25th June 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95000" y="99072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4000" spc="-1" strike="noStrike">
                <a:solidFill>
                  <a:srgbClr val="000000"/>
                </a:solidFill>
                <a:latin typeface="Arial"/>
              </a:rPr>
              <a:t>Preconditions for Successful 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899136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285840">
              <a:lnSpc>
                <a:spcPct val="140000"/>
              </a:lnSpc>
              <a:spcBef>
                <a:spcPts val="751"/>
              </a:spcBef>
              <a:buClr>
                <a:srgbClr val="ff86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000" spc="-1" strike="noStrike">
                <a:solidFill>
                  <a:srgbClr val="000000"/>
                </a:solidFill>
                <a:latin typeface="Arial"/>
              </a:rPr>
              <a:t>Transparenc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285840">
              <a:lnSpc>
                <a:spcPct val="140000"/>
              </a:lnSpc>
              <a:spcBef>
                <a:spcPts val="751"/>
              </a:spcBef>
              <a:buClr>
                <a:srgbClr val="ff86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000" spc="-1" strike="noStrike">
                <a:solidFill>
                  <a:srgbClr val="000000"/>
                </a:solidFill>
                <a:latin typeface="Arial"/>
              </a:rPr>
              <a:t>Institutional independe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285840">
              <a:lnSpc>
                <a:spcPct val="140000"/>
              </a:lnSpc>
              <a:spcBef>
                <a:spcPts val="751"/>
              </a:spcBef>
              <a:buClr>
                <a:srgbClr val="ff86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000" spc="-1" strike="noStrike">
                <a:solidFill>
                  <a:srgbClr val="000000"/>
                </a:solidFill>
                <a:latin typeface="Arial"/>
              </a:rPr>
              <a:t>Timely identification of topics and issu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orkshop on Institutionalization of Participatory Advisory System, Tokyo 24th, 25th June 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95000" y="99072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4000" spc="-1" strike="noStrike">
                <a:solidFill>
                  <a:srgbClr val="000000"/>
                </a:solidFill>
                <a:latin typeface="Arial"/>
              </a:rPr>
              <a:t>Success Factors for 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8991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285840">
              <a:lnSpc>
                <a:spcPct val="140000"/>
              </a:lnSpc>
              <a:spcBef>
                <a:spcPts val="751"/>
              </a:spcBef>
              <a:buClr>
                <a:srgbClr val="ff86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000" spc="-1" strike="noStrike">
                <a:solidFill>
                  <a:srgbClr val="000000"/>
                </a:solidFill>
                <a:latin typeface="Arial"/>
              </a:rPr>
              <a:t>Instituional Setting of TA Organis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285840">
              <a:lnSpc>
                <a:spcPct val="140000"/>
              </a:lnSpc>
              <a:spcBef>
                <a:spcPts val="751"/>
              </a:spcBef>
              <a:buClr>
                <a:srgbClr val="ff86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000" spc="-1" strike="noStrike">
                <a:solidFill>
                  <a:srgbClr val="000000"/>
                </a:solidFill>
                <a:latin typeface="Arial"/>
              </a:rPr>
              <a:t>Credibil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285840">
              <a:lnSpc>
                <a:spcPct val="140000"/>
              </a:lnSpc>
              <a:spcBef>
                <a:spcPts val="751"/>
              </a:spcBef>
              <a:buClr>
                <a:srgbClr val="ff86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000" spc="-1" strike="noStrike">
                <a:solidFill>
                  <a:srgbClr val="000000"/>
                </a:solidFill>
                <a:latin typeface="Arial"/>
              </a:rPr>
              <a:t>Communic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orkshop on Institutionalization of Participatory Advisory System, Tokyo 24th, 25th June 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762120"/>
            <a:ext cx="8915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Arial"/>
              </a:rPr>
              <a:t>TA-Products (1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90676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4760" indent="-374760">
              <a:lnSpc>
                <a:spcPct val="90000"/>
              </a:lnSpc>
              <a:spcBef>
                <a:spcPts val="675"/>
              </a:spcBef>
              <a:buClr>
                <a:srgbClr val="ff9e29"/>
              </a:buClr>
              <a:buSzPct val="110000"/>
              <a:buFont typeface="Arial"/>
              <a:buChar char="•"/>
              <a:tabLst>
                <a:tab algn="l" pos="3622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700" spc="-1" strike="noStrike">
                <a:solidFill>
                  <a:srgbClr val="000000"/>
                </a:solidFill>
                <a:latin typeface="Arial"/>
              </a:rPr>
              <a:t>TA-Reports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3057480" indent="-285840">
              <a:lnSpc>
                <a:spcPct val="90000"/>
              </a:lnSpc>
              <a:spcBef>
                <a:spcPts val="675"/>
              </a:spcBef>
              <a:buClr>
                <a:srgbClr val="ff8601"/>
              </a:buClr>
              <a:buFont typeface="Wingdings" charset="2"/>
              <a:buChar char=""/>
              <a:tabLst>
                <a:tab algn="l" pos="3622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Arial"/>
              </a:rPr>
              <a:t>scientific report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3057480" indent="-285840">
              <a:lnSpc>
                <a:spcPct val="90000"/>
              </a:lnSpc>
              <a:spcBef>
                <a:spcPts val="675"/>
              </a:spcBef>
              <a:buClr>
                <a:srgbClr val="ff8601"/>
              </a:buClr>
              <a:buFont typeface="Wingdings" charset="2"/>
              <a:buChar char=""/>
              <a:tabLst>
                <a:tab algn="l" pos="3622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Arial"/>
              </a:rPr>
              <a:t>short version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3057480" indent="-285840">
              <a:lnSpc>
                <a:spcPct val="90000"/>
              </a:lnSpc>
              <a:spcBef>
                <a:spcPts val="675"/>
              </a:spcBef>
              <a:buClr>
                <a:srgbClr val="ff8601"/>
              </a:buClr>
              <a:buFont typeface="Wingdings" charset="2"/>
              <a:buChar char=""/>
              <a:tabLst>
                <a:tab algn="l" pos="3622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Arial"/>
              </a:rPr>
              <a:t>citizen report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3057480" indent="-285840">
              <a:lnSpc>
                <a:spcPct val="90000"/>
              </a:lnSpc>
              <a:spcBef>
                <a:spcPts val="675"/>
              </a:spcBef>
              <a:buClr>
                <a:srgbClr val="ff8601"/>
              </a:buClr>
              <a:buFont typeface="Wingdings" charset="2"/>
              <a:buChar char=""/>
              <a:tabLst>
                <a:tab algn="l" pos="3622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Arial"/>
              </a:rPr>
              <a:t>fact sheets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lnSpc>
                <a:spcPct val="90000"/>
              </a:lnSpc>
              <a:spcBef>
                <a:spcPts val="675"/>
              </a:spcBef>
              <a:buClr>
                <a:srgbClr val="ff9e29"/>
              </a:buClr>
              <a:buSzPct val="110000"/>
              <a:buFont typeface="Arial"/>
              <a:buChar char="•"/>
              <a:tabLst>
                <a:tab algn="l" pos="3622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700" spc="-1" strike="noStrike">
                <a:solidFill>
                  <a:srgbClr val="000000"/>
                </a:solidFill>
                <a:latin typeface="Arial"/>
              </a:rPr>
              <a:t>participatory TA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3057480" indent="-285840">
              <a:lnSpc>
                <a:spcPct val="90000"/>
              </a:lnSpc>
              <a:spcBef>
                <a:spcPts val="675"/>
              </a:spcBef>
              <a:buClr>
                <a:srgbClr val="ff8601"/>
              </a:buClr>
              <a:buFont typeface="Wingdings" charset="2"/>
              <a:buChar char=""/>
              <a:tabLst>
                <a:tab algn="l" pos="3622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Arial"/>
              </a:rPr>
              <a:t>PubliForum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3057480" indent="-285840">
              <a:lnSpc>
                <a:spcPct val="90000"/>
              </a:lnSpc>
              <a:spcBef>
                <a:spcPts val="675"/>
              </a:spcBef>
              <a:buClr>
                <a:srgbClr val="ff8601"/>
              </a:buClr>
              <a:buFont typeface="Wingdings" charset="2"/>
              <a:buChar char=""/>
              <a:tabLst>
                <a:tab algn="l" pos="3622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Arial"/>
              </a:rPr>
              <a:t>publifocu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3057480" indent="-285840">
              <a:lnSpc>
                <a:spcPct val="90000"/>
              </a:lnSpc>
              <a:spcBef>
                <a:spcPts val="675"/>
              </a:spcBef>
              <a:buClr>
                <a:srgbClr val="ff8601"/>
              </a:buClr>
              <a:buFont typeface="Wingdings" charset="2"/>
              <a:buChar char=""/>
              <a:tabLst>
                <a:tab algn="l" pos="3622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Arial"/>
              </a:rPr>
              <a:t>PubliTalk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30574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3622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3622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orkshop on Institutionalization of Participatory Advisory System, Tokyo 24th, 25th June 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915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000000"/>
                </a:solidFill>
                <a:latin typeface="Arial"/>
              </a:rPr>
              <a:t>TA-Products (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95000" y="1904760"/>
            <a:ext cx="8915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2384280" indent="0">
              <a:lnSpc>
                <a:spcPct val="4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82760" indent="-482760">
              <a:spcBef>
                <a:spcPts val="675"/>
              </a:spcBef>
              <a:buClr>
                <a:srgbClr val="ff9e2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700" spc="-1" strike="noStrike">
                <a:solidFill>
                  <a:srgbClr val="000000"/>
                </a:solidFill>
                <a:latin typeface="Arial"/>
              </a:rPr>
              <a:t>TA-Events and communication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82760" indent="0">
              <a:lnSpc>
                <a:spcPct val="5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2384280" indent="-285480">
              <a:spcBef>
                <a:spcPts val="649"/>
              </a:spcBef>
              <a:buClr>
                <a:srgbClr val="ff8601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meetings with politici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2384280" indent="-285480">
              <a:spcBef>
                <a:spcPts val="649"/>
              </a:spcBef>
              <a:buClr>
                <a:srgbClr val="ff8601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public conferences</a:t>
            </a: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2384280" indent="-285480">
              <a:spcBef>
                <a:spcPts val="675"/>
              </a:spcBef>
              <a:buClr>
                <a:srgbClr val="ff8601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Arial"/>
              </a:rPr>
              <a:t>media conferenc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2384280" indent="-285480">
              <a:spcBef>
                <a:spcPts val="675"/>
              </a:spcBef>
              <a:buClr>
                <a:srgbClr val="ff8601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Arial"/>
              </a:rPr>
              <a:t>web-sit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2384280" indent="-285480">
              <a:spcBef>
                <a:spcPts val="675"/>
              </a:spcBef>
              <a:buClr>
                <a:srgbClr val="ff8601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Arial"/>
              </a:rPr>
              <a:t>newsletter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orkshop on Institutionalization of Participatory Advisory System, Tokyo 24th, 25th June 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95000" y="837720"/>
            <a:ext cx="8915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Arial"/>
              </a:rPr>
              <a:t>The PubliForu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95000" y="25905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914400" y="2438280"/>
            <a:ext cx="8077320" cy="3683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orkshop on Institutionalization of Participatory Advisory System, Tokyo 24th, 25th June 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95000" y="99036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4000" spc="-1" strike="noStrike">
                <a:solidFill>
                  <a:srgbClr val="000000"/>
                </a:solidFill>
                <a:latin typeface="Arial"/>
              </a:rPr>
              <a:t>PubliForum: Defi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97538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700" spc="-1" strike="noStrike">
                <a:solidFill>
                  <a:srgbClr val="000000"/>
                </a:solidFill>
                <a:latin typeface="Arial"/>
              </a:rPr>
              <a:t>The PubliForum is a process involving about 30 lay citizens selected from the general public where they can: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62040" indent="-274680">
              <a:lnSpc>
                <a:spcPct val="145000"/>
              </a:lnSpc>
              <a:spcBef>
                <a:spcPts val="2024"/>
              </a:spcBef>
              <a:buClr>
                <a:srgbClr val="ff8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700" spc="-1" strike="noStrike">
                <a:solidFill>
                  <a:srgbClr val="000000"/>
                </a:solidFill>
                <a:latin typeface="Arial"/>
              </a:rPr>
              <a:t>obtain information on a particular topic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62040" indent="-274680">
              <a:lnSpc>
                <a:spcPct val="75000"/>
              </a:lnSpc>
              <a:spcBef>
                <a:spcPts val="2024"/>
              </a:spcBef>
              <a:buClr>
                <a:srgbClr val="ff8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700" spc="-1" strike="noStrike">
                <a:solidFill>
                  <a:srgbClr val="000000"/>
                </a:solidFill>
                <a:latin typeface="Arial"/>
              </a:rPr>
              <a:t>select experts and take part in an </a:t>
            </a:r>
            <a:br>
              <a:rPr sz="2700"/>
            </a:br>
            <a:r>
              <a:rPr b="0" lang="de-CH" sz="2700" spc="-1" strike="noStrike">
                <a:solidFill>
                  <a:srgbClr val="000000"/>
                </a:solidFill>
                <a:latin typeface="Arial"/>
              </a:rPr>
              <a:t>active dialogue with them</a:t>
            </a:r>
            <a:r>
              <a:rPr b="0" lang="de-CH" sz="27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62040" indent="-274680">
              <a:lnSpc>
                <a:spcPct val="75000"/>
              </a:lnSpc>
              <a:spcBef>
                <a:spcPts val="2024"/>
              </a:spcBef>
              <a:buClr>
                <a:srgbClr val="ff8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700" spc="-1" strike="noStrike">
                <a:solidFill>
                  <a:srgbClr val="000000"/>
                </a:solidFill>
                <a:latin typeface="Arial"/>
              </a:rPr>
              <a:t>formulate recommendations and include </a:t>
            </a:r>
            <a:br>
              <a:rPr sz="2700"/>
            </a:br>
            <a:r>
              <a:rPr b="0" lang="de-CH" sz="2700" spc="-1" strike="noStrike">
                <a:solidFill>
                  <a:srgbClr val="000000"/>
                </a:solidFill>
                <a:latin typeface="Arial"/>
              </a:rPr>
              <a:t>them in the citizen repor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238880" y="3200400"/>
            <a:ext cx="2301840" cy="2895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orkshop on Institutionalization of Participatory Advisory System, Tokyo 24th, 25th June 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95000" y="990720"/>
            <a:ext cx="89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000" spc="-1" strike="noStrike">
                <a:solidFill>
                  <a:srgbClr val="000000"/>
                </a:solidFill>
                <a:latin typeface="Arial"/>
              </a:rPr>
              <a:t>PubliForum: the prepar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700" spc="-1" strike="noStrike">
                <a:solidFill>
                  <a:srgbClr val="000000"/>
                </a:solidFill>
                <a:latin typeface="Arial"/>
              </a:rPr>
              <a:t>Constitution of the citizens pan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ff8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Arial"/>
              </a:rPr>
              <a:t>invitation sent to about 10’000 persons (randomly selected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ff8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Arial"/>
              </a:rPr>
              <a:t>selection of about 30 persons according to socio-demographic characteristics (age, sex, region, education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700" spc="-1" strike="noStrike">
                <a:solidFill>
                  <a:srgbClr val="000000"/>
                </a:solidFill>
                <a:latin typeface="Arial"/>
              </a:rPr>
              <a:t>Fact sheets for the citizens pan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orkshop on Institutionalization of Participatory Advisory System, Tokyo 24th, 25th June 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33160" y="685800"/>
            <a:ext cx="8915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Arial"/>
              </a:rPr>
              <a:t>PubliForum: The main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8915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700" spc="-1" strike="noStrike">
                <a:solidFill>
                  <a:srgbClr val="000000"/>
                </a:solidFill>
                <a:latin typeface="Arial"/>
              </a:rPr>
              <a:t>Two preparatory week-ends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ff8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Arial"/>
              </a:rPr>
              <a:t>basic information on the issu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ff8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Arial"/>
              </a:rPr>
              <a:t>definition of the question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ff8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Arial"/>
              </a:rPr>
              <a:t>choice of expert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700" spc="-1" strike="noStrike">
                <a:solidFill>
                  <a:srgbClr val="000000"/>
                </a:solidFill>
                <a:latin typeface="Arial"/>
              </a:rPr>
              <a:t>PubliForum (4 days)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ff8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Arial"/>
              </a:rPr>
              <a:t>dialogue between lay panel and expert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ff8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Arial"/>
              </a:rPr>
              <a:t>the lay panel writes a repor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ff8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Arial"/>
              </a:rPr>
              <a:t>the lay panel presents the report + discussio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orkshop on Institutionalization of Participatory Advisory System, Tokyo 24th, 25th June 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560" y="990360"/>
            <a:ext cx="9296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The Swiss Center for Technology Assessment</a:t>
            </a: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TA-SWISS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91840" y="2742840"/>
            <a:ext cx="872172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ff9e2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Arial"/>
              </a:rPr>
              <a:t>is affiliated to the Swiss Science and Technology Counci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ff9e2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Arial"/>
              </a:rPr>
              <a:t>has a mandate to support (political) decision making related to new technologies 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orkshop on Institutionalization of Participatory Advisory System, Tokyo 24th, 25th June 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95000" y="837720"/>
            <a:ext cx="8915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Arial"/>
              </a:rPr>
              <a:t>PubliForum: resul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95000" y="2286000"/>
            <a:ext cx="8915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700" spc="-1" strike="noStrike">
                <a:solidFill>
                  <a:srgbClr val="000000"/>
                </a:solidFill>
                <a:latin typeface="Arial"/>
              </a:rPr>
              <a:t>Recommandations for decision-makers (in politics, public administration, industry and research) on :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58800" indent="-285840">
              <a:spcBef>
                <a:spcPts val="675"/>
              </a:spcBef>
              <a:buClr>
                <a:srgbClr val="ff8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700" spc="-1" strike="noStrike">
                <a:solidFill>
                  <a:srgbClr val="000000"/>
                </a:solidFill>
                <a:latin typeface="Arial"/>
              </a:rPr>
              <a:t>the general public´s preferences,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58800" indent="-285840">
              <a:spcBef>
                <a:spcPts val="675"/>
              </a:spcBef>
              <a:buClr>
                <a:srgbClr val="ff8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700" spc="-1" strike="noStrike">
                <a:solidFill>
                  <a:srgbClr val="000000"/>
                </a:solidFill>
                <a:latin typeface="Arial"/>
              </a:rPr>
              <a:t>their understanding of the </a:t>
            </a:r>
            <a:br>
              <a:rPr sz="2700"/>
            </a:br>
            <a:r>
              <a:rPr b="0" lang="de-CH" sz="2700" spc="-1" strike="noStrike">
                <a:solidFill>
                  <a:srgbClr val="000000"/>
                </a:solidFill>
                <a:latin typeface="Arial"/>
              </a:rPr>
              <a:t>problem,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58800" indent="-285840">
              <a:spcBef>
                <a:spcPts val="675"/>
              </a:spcBef>
              <a:buClr>
                <a:srgbClr val="ff8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700" spc="-1" strike="noStrike">
                <a:solidFill>
                  <a:srgbClr val="000000"/>
                </a:solidFill>
                <a:latin typeface="Arial"/>
              </a:rPr>
              <a:t>their hopes and fears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58800" indent="-285840">
              <a:spcBef>
                <a:spcPts val="675"/>
              </a:spcBef>
              <a:buClr>
                <a:srgbClr val="ff8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7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6705720" y="3429000"/>
            <a:ext cx="2876400" cy="2895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orkshop on Institutionalization of Participatory Advisory System, Tokyo 24th, 25th June 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95000" y="990360"/>
            <a:ext cx="8915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ubliForum: Particularitie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95000" y="1828800"/>
            <a:ext cx="8915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77920">
              <a:spcBef>
                <a:spcPts val="2188"/>
              </a:spcBef>
              <a:buClr>
                <a:srgbClr val="ff8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nables the general public to be drawn into the debate on controversial technologies at an early stage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77920">
              <a:spcBef>
                <a:spcPts val="2188"/>
              </a:spcBef>
              <a:buClr>
                <a:srgbClr val="ff8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osters dialogue between the general public and the experts, contributes to an informed public debat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77920">
              <a:spcBef>
                <a:spcPts val="2188"/>
              </a:spcBef>
              <a:buClr>
                <a:srgbClr val="ff8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vides the population with a platform to express their expectations and concern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orkshop on Institutionalization of Participatory Advisory System, Tokyo 24th, 25th June 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95000" y="837720"/>
            <a:ext cx="8915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4000" spc="-1" strike="noStrike">
                <a:solidFill>
                  <a:srgbClr val="000000"/>
                </a:solidFill>
                <a:latin typeface="Arial"/>
              </a:rPr>
              <a:t>Many PubliForu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95000" y="1752120"/>
            <a:ext cx="8915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6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1998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« Electricity and Society » </a:t>
            </a:r>
            <a:br>
              <a:rPr sz="2800"/>
            </a:br>
            <a:br>
              <a:rPr sz="2800"/>
            </a:b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1999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« Genetic engineering and Food »</a:t>
            </a:r>
            <a:br>
              <a:rPr sz="2800"/>
            </a:br>
            <a:br>
              <a:rPr sz="2800"/>
            </a:b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2000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« Transplantation medicine »</a:t>
            </a:r>
            <a:br>
              <a:rPr sz="2800"/>
            </a:br>
            <a:br>
              <a:rPr sz="2800"/>
            </a:b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2004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« Research involving human beings 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orkshop on Institutionalization of Participatory Advisory System, Tokyo 24th, 25th June 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95000" y="99036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4000" spc="-1" strike="noStrike">
                <a:solidFill>
                  <a:srgbClr val="000000"/>
                </a:solidFill>
                <a:latin typeface="Arial"/>
              </a:rPr>
              <a:t>publifocus: Defi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9144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7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ries of discussions among citizens, modeled on «focus groups»: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66800" indent="-285840">
              <a:lnSpc>
                <a:spcPct val="80000"/>
              </a:lnSpc>
              <a:spcBef>
                <a:spcPts val="675"/>
              </a:spcBef>
              <a:buClr>
                <a:srgbClr val="ff8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ructured discussions based on prepared questions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66800" indent="-285840">
              <a:lnSpc>
                <a:spcPct val="90000"/>
              </a:lnSpc>
              <a:spcBef>
                <a:spcPts val="675"/>
              </a:spcBef>
              <a:buClr>
                <a:srgbClr val="ff8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alogue conducted exclusively among citizens (randomly selected or among those persons directly concerned)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66800" indent="-285840">
              <a:lnSpc>
                <a:spcPct val="90000"/>
              </a:lnSpc>
              <a:spcBef>
                <a:spcPts val="675"/>
              </a:spcBef>
              <a:buClr>
                <a:srgbClr val="ff8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organizers analyze the discussions (opinions, arguments) and publish a repor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orkshop on Institutionalization of Participatory Advisory System, Tokyo 24th, 25th June 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95000" y="990360"/>
            <a:ext cx="8915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ublifocus: Prepar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4560" y="1676160"/>
            <a:ext cx="9219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ruitment of participants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 algn="just">
              <a:lnSpc>
                <a:spcPct val="90000"/>
              </a:lnSpc>
              <a:spcBef>
                <a:spcPts val="601"/>
              </a:spcBef>
              <a:buClr>
                <a:srgbClr val="ff8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y mail (randomly sent out invitatio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90000"/>
              </a:lnSpc>
              <a:spcBef>
                <a:spcPts val="601"/>
              </a:spcBef>
              <a:buClr>
                <a:srgbClr val="ff8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a chosen organization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ocumentation for the participants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90000"/>
              </a:lnSpc>
              <a:spcBef>
                <a:spcPts val="499"/>
              </a:spcBef>
              <a:buClr>
                <a:srgbClr val="ff8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prox. 10 Information fact-sheets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lection of one or two experts for an introduction to the topic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90000"/>
              </a:lnSpc>
              <a:spcBef>
                <a:spcPts val="601"/>
              </a:spcBef>
              <a:buClr>
                <a:srgbClr val="ff8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road vie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90000"/>
              </a:lnSpc>
              <a:spcBef>
                <a:spcPts val="601"/>
              </a:spcBef>
              <a:buClr>
                <a:srgbClr val="ff8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dependent and neut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orkshop on Institutionalization of Participatory Advisory System, Tokyo 24th, 25th June 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95000" y="9903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ublifocus: Proced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95000" y="1828440"/>
            <a:ext cx="8915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etween 4 and 6 discussion groups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8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 the different linguistic regions of Switzer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8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bout 15 participants in a discussion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8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troductory briefing followed by an approx. 2-hour discu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8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scussion led by a moder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diting and subsequent publication of a report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8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ssignment given to a professional edi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orkshop on Institutionalization of Participatory Advisory System, Tokyo 24th, 25th June 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95000" y="9903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4000" spc="-1" strike="noStrike">
                <a:solidFill>
                  <a:srgbClr val="000000"/>
                </a:solidFill>
                <a:latin typeface="Arial"/>
              </a:rPr>
              <a:t>publifocus: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articular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95000" y="25905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ff9e2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acilitates a compilation of contrasting and well-thought-out opinions on aspects of technology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ff9e2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ossibility of comparing different population groups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orkshop on Institutionalization of Participatory Advisory System, Tokyo 24th, 25th June 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95000" y="99036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4000" spc="-1" strike="noStrike">
                <a:solidFill>
                  <a:srgbClr val="000000"/>
                </a:solidFill>
                <a:latin typeface="Arial"/>
              </a:rPr>
              <a:t>publifocus: Resul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95360" y="1980720"/>
            <a:ext cx="91058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ransmits to the decision-makers (politicians, administration, research, industry, etc.) quality information concerning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66800" indent="-285840">
              <a:spcBef>
                <a:spcPts val="675"/>
              </a:spcBef>
              <a:buClr>
                <a:srgbClr val="ff8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opinions and the values of the population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66800" indent="-285840">
              <a:spcBef>
                <a:spcPts val="675"/>
              </a:spcBef>
              <a:buClr>
                <a:srgbClr val="ff8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ypical supporting arguments put forth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orkshop on Institutionalization of Participatory Advisory System, Tokyo 24th, 25th June 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95000" y="99072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4000" spc="-1" strike="noStrike">
                <a:solidFill>
                  <a:srgbClr val="000000"/>
                </a:solidFill>
                <a:latin typeface="Arial"/>
              </a:rPr>
              <a:t>Two publifoci, soon a thir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915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ast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ff9e2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em cell research (spring 2002)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ff9e2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-vitro fertilization (spring 2003)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uture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ff9e2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oad pricing (2004)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orkshop on Institutionalization of Participatory Advisory System, Tokyo 24th, 25th June 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95000" y="990360"/>
            <a:ext cx="8915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ubliTalk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–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earch on human beings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ims and Objectiv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33160" y="2286000"/>
            <a:ext cx="9048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ff9e29"/>
              </a:buClr>
              <a:buSzPct val="110000"/>
              <a:buFont typeface="Wingdings" charset="2"/>
              <a:buChar char=""/>
              <a:tabLst>
                <a:tab algn="l" pos="3139920"/>
                <a:tab algn="l" pos="6102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earning how young people think about certain aspects of research on human beings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3139920"/>
                <a:tab algn="l" pos="6102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ff9e29"/>
              </a:buClr>
              <a:buSzPct val="110000"/>
              <a:buFont typeface="Wingdings" charset="2"/>
              <a:buChar char=""/>
              <a:tabLst>
                <a:tab algn="l" pos="3139920"/>
                <a:tab algn="l" pos="6102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aising the awareness of youth and young adults for what the forthcoming Federal Law will say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3139920"/>
                <a:tab algn="l" pos="6102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ff9e29"/>
              </a:buClr>
              <a:buSzPct val="110000"/>
              <a:buFont typeface="Wingdings" charset="2"/>
              <a:buChar char=""/>
              <a:tabLst>
                <a:tab algn="l" pos="3139920"/>
                <a:tab algn="l" pos="6102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ublication and dissemination of a comprehensive report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orkshop on Institutionalization of Participatory Advisory System, Tokyo 24th, 25th June 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560" y="990360"/>
            <a:ext cx="92962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The Swiss Center for Technology Assessment</a:t>
            </a: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TA-SWISS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5920" y="2285640"/>
            <a:ext cx="89535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863"/>
              </a:spcBef>
              <a:buClr>
                <a:srgbClr val="ff9e2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Arial"/>
              </a:rPr>
              <a:t>evaluates technologies using ”classical” TA studies involving scientific analysis and expert discussions (interdisciplinary studies)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863"/>
              </a:spcBef>
              <a:buClr>
                <a:srgbClr val="ff9e2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Arial"/>
              </a:rPr>
              <a:t>evaluates technologies by participative methods (PubliForum</a:t>
            </a:r>
            <a:r>
              <a:rPr b="0" lang="fr-CH" sz="2700" spc="-1" strike="noStrike">
                <a:solidFill>
                  <a:srgbClr val="000000"/>
                </a:solidFill>
                <a:latin typeface="Arial"/>
              </a:rPr>
              <a:t>, publifocus, etc.</a:t>
            </a:r>
            <a:r>
              <a:rPr b="0" lang="en-GB" sz="2700" spc="-1" strike="noStrike">
                <a:solidFill>
                  <a:srgbClr val="000000"/>
                </a:solidFill>
                <a:latin typeface="Arial"/>
              </a:rPr>
              <a:t>) involving the general public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863"/>
              </a:spcBef>
              <a:buClr>
                <a:srgbClr val="ff9e2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Arial"/>
              </a:rPr>
              <a:t>communicates its results to decision makers and to the general public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orkshop on Institutionalization of Participatory Advisory System, Tokyo 24th, 25th June 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6840" y="9144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ubliTalk – Proced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09480" y="2666880"/>
            <a:ext cx="8915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95360" y="2057400"/>
            <a:ext cx="8800920" cy="32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687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eparations (documentation, preliminary interviews, formulation of the questions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687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troduction with basic inform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687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scussion in 2 working groups; summary minutes drawn up by the youth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687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esentation of the results in plenary mee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orkshop on Institutionalization of Participatory Advisory System, Tokyo 24th, 25th June 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95000" y="990360"/>
            <a:ext cx="8915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4000" spc="-1" strike="noStrike">
                <a:solidFill>
                  <a:srgbClr val="000000"/>
                </a:solidFill>
                <a:latin typeface="Arial"/>
              </a:rPr>
              <a:t>PubliTalk – The Metho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91440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75"/>
              </a:spcBef>
              <a:buClr>
                <a:srgbClr val="ff9e29"/>
              </a:buClr>
              <a:buSzPct val="110000"/>
              <a:buFont typeface="Wingdings" charset="2"/>
              <a:buChar char=""/>
              <a:tabLst>
                <a:tab algn="l" pos="3139920"/>
                <a:tab algn="l" pos="6102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ocus is on youth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75"/>
              </a:spcBef>
              <a:buClr>
                <a:srgbClr val="ff9e29"/>
              </a:buClr>
              <a:buSzPct val="110000"/>
              <a:buFont typeface="Wingdings" charset="2"/>
              <a:buChar char=""/>
              <a:tabLst>
                <a:tab algn="l" pos="3139920"/>
                <a:tab algn="l" pos="6102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troduced with a concrete case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75"/>
              </a:spcBef>
              <a:buClr>
                <a:srgbClr val="ff9e29"/>
              </a:buClr>
              <a:buSzPct val="110000"/>
              <a:buFont typeface="Wingdings" charset="2"/>
              <a:buChar char=""/>
              <a:tabLst>
                <a:tab algn="l" pos="3139920"/>
                <a:tab algn="l" pos="6102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perts provide background information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75"/>
              </a:spcBef>
              <a:buClr>
                <a:srgbClr val="ff9e29"/>
              </a:buClr>
              <a:buSzPct val="110000"/>
              <a:buFont typeface="Wingdings" charset="2"/>
              <a:buChar char=""/>
              <a:tabLst>
                <a:tab algn="l" pos="3139920"/>
                <a:tab algn="l" pos="6102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scussion in working groups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75"/>
              </a:spcBef>
              <a:buClr>
                <a:srgbClr val="ff9e29"/>
              </a:buClr>
              <a:buSzPct val="110000"/>
              <a:buFont typeface="Wingdings" charset="2"/>
              <a:buChar char=""/>
              <a:tabLst>
                <a:tab algn="l" pos="3139920"/>
                <a:tab algn="l" pos="6102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esentation and discussion of the results in a plenary meeting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75"/>
              </a:spcBef>
              <a:buClr>
                <a:srgbClr val="ff9e29"/>
              </a:buClr>
              <a:buSzPct val="110000"/>
              <a:buFont typeface="Wingdings" charset="2"/>
              <a:buChar char=""/>
              <a:tabLst>
                <a:tab algn="l" pos="3139920"/>
                <a:tab algn="l" pos="6102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ummary report compiled by the organizers 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orkshop on Institutionalization of Participatory Advisory System, Tokyo 24th, 25th June 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95000" y="685800"/>
            <a:ext cx="8915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PubliTalk – </a:t>
            </a:r>
            <a:r>
              <a:rPr b="1" lang="de-CH" sz="3600" spc="-1" strike="noStrike">
                <a:solidFill>
                  <a:srgbClr val="000000"/>
                </a:solidFill>
                <a:latin typeface="Arial"/>
              </a:rPr>
              <a:t>Results</a:t>
            </a:r>
            <a:r>
              <a:rPr b="0" lang="de-CH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09480" y="2666880"/>
            <a:ext cx="8915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80880" y="2362320"/>
            <a:ext cx="9296640" cy="261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clusionsb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100000"/>
              </a:lnSpc>
              <a:spcBef>
                <a:spcPts val="1687"/>
              </a:spcBef>
              <a:buClr>
                <a:srgbClr val="ff9e2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Youth/teachers applaud PubliTal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100000"/>
              </a:lnSpc>
              <a:spcBef>
                <a:spcPts val="1687"/>
              </a:spcBef>
              <a:buClr>
                <a:srgbClr val="ff9e2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Youth are willing to participate in experiments provided there is: comprehensive information, independent consultative body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orkshop on Institutionalization of Participatory Advisory System, Tokyo 24th, 25th June 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95000" y="9903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Arial"/>
              </a:rPr>
              <a:t>Impacts of participatory </a:t>
            </a:r>
            <a:br>
              <a:rPr sz="4000"/>
            </a:br>
            <a:r>
              <a:rPr b="1" lang="fr-FR" sz="4000" spc="-1" strike="noStrike">
                <a:solidFill>
                  <a:srgbClr val="000000"/>
                </a:solidFill>
                <a:latin typeface="Arial"/>
              </a:rPr>
              <a:t>TA projects (I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95000" y="23623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900" spc="-1" strike="noStrike">
                <a:solidFill>
                  <a:srgbClr val="000000"/>
                </a:solidFill>
                <a:latin typeface="Arial"/>
              </a:rPr>
              <a:t>PubliForum « Electricity and Society »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77920">
              <a:spcBef>
                <a:spcPts val="675"/>
              </a:spcBef>
              <a:buClr>
                <a:srgbClr val="ff8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Arial"/>
              </a:rPr>
              <a:t>Contributed to the promotion of a new kind of dialogue between science and society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900" spc="-1" strike="noStrike">
                <a:solidFill>
                  <a:srgbClr val="000000"/>
                </a:solidFill>
                <a:latin typeface="Arial"/>
              </a:rPr>
              <a:t>PubliForum « Genetic engineering and food »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77920">
              <a:spcBef>
                <a:spcPts val="675"/>
              </a:spcBef>
              <a:buClr>
                <a:srgbClr val="ff8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Arial"/>
              </a:rPr>
              <a:t>The results have been mentionned in the Parliament (in commission and in the plenum), when the Federal Law on genetic engineering was discussed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orkshop on Institutionalization of Participatory Advisory System, Tokyo 24th, 25th June 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95000" y="990720"/>
            <a:ext cx="8915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Arial"/>
              </a:rPr>
              <a:t>Impacts of participatory </a:t>
            </a:r>
            <a:br>
              <a:rPr sz="4000"/>
            </a:br>
            <a:r>
              <a:rPr b="1" lang="fr-FR" sz="4000" spc="-1" strike="noStrike">
                <a:solidFill>
                  <a:srgbClr val="000000"/>
                </a:solidFill>
                <a:latin typeface="Arial"/>
              </a:rPr>
              <a:t>TA projects (II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9296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900" spc="-1" strike="noStrike">
                <a:solidFill>
                  <a:srgbClr val="000000"/>
                </a:solidFill>
                <a:latin typeface="Arial"/>
              </a:rPr>
              <a:t>PubliForum on Transplantation medicine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78000" indent="-187560">
              <a:spcBef>
                <a:spcPts val="649"/>
              </a:spcBef>
              <a:buClr>
                <a:srgbClr val="ff8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600" spc="-1" strike="noStrike">
                <a:solidFill>
                  <a:srgbClr val="000000"/>
                </a:solidFill>
                <a:latin typeface="Arial"/>
              </a:rPr>
              <a:t>Integration of the recommendations in the Federal Council´s submission to parliament on the Federal Law on Transplantation</a:t>
            </a:r>
            <a:br>
              <a:rPr sz="2600"/>
            </a:br>
            <a:r>
              <a:rPr b="0" lang="de-CH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378000" indent="-187560">
              <a:spcBef>
                <a:spcPts val="649"/>
              </a:spcBef>
              <a:buClr>
                <a:srgbClr val="ff8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600" spc="-1" strike="noStrike">
                <a:solidFill>
                  <a:srgbClr val="000000"/>
                </a:solidFill>
                <a:latin typeface="Arial"/>
              </a:rPr>
              <a:t>Application by the St. Gall cantonal hospital for the setting-up of a department for the psychological care of those involved in a transplant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orkshop on Institutionalization of Participatory Advisory System, Tokyo 24th, 25th June 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95000" y="990720"/>
            <a:ext cx="8915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Arial"/>
              </a:rPr>
              <a:t>Impacts of participatory </a:t>
            </a:r>
            <a:br>
              <a:rPr sz="4000"/>
            </a:br>
            <a:r>
              <a:rPr b="1" lang="fr-FR" sz="4000" spc="-1" strike="noStrike">
                <a:solidFill>
                  <a:srgbClr val="000000"/>
                </a:solidFill>
                <a:latin typeface="Arial"/>
              </a:rPr>
              <a:t>TA projects (III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95360" y="1905120"/>
            <a:ext cx="91058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900" spc="-1" strike="noStrike">
                <a:solidFill>
                  <a:srgbClr val="000000"/>
                </a:solidFill>
                <a:latin typeface="Arial"/>
              </a:rPr>
              <a:t>PubliForum on Transplantation medicine</a:t>
            </a:r>
            <a:r>
              <a:rPr b="0" lang="de-CH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65000" indent="-384120">
              <a:spcBef>
                <a:spcPts val="649"/>
              </a:spcBef>
              <a:buClr>
                <a:srgbClr val="ff8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600" spc="-1" strike="noStrike">
                <a:solidFill>
                  <a:srgbClr val="000000"/>
                </a:solidFill>
                <a:latin typeface="Arial"/>
              </a:rPr>
              <a:t>TA-SWISS has been invited to present the results of the PubliForum to the Commission on Social Security and Health of the Assembly of Sta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650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000000"/>
                </a:solidFill>
                <a:latin typeface="Arial"/>
              </a:rPr>
              <a:t>Publifocus on stem cells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65000" indent="0">
              <a:lnSpc>
                <a:spcPts val="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65000" indent="-384120">
              <a:spcBef>
                <a:spcPts val="649"/>
              </a:spcBef>
              <a:buClr>
                <a:srgbClr val="ff8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Part of the civil-society debate organized by the Foundation Science et Cité on stem cells (200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orkshop on Institutionalization of Participatory Advisory System, Tokyo 24th, 25th June 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95000" y="990720"/>
            <a:ext cx="8915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Arial"/>
              </a:rPr>
              <a:t>Impacts of participatory </a:t>
            </a:r>
            <a:br>
              <a:rPr sz="4000"/>
            </a:br>
            <a:r>
              <a:rPr b="1" lang="fr-FR" sz="4000" spc="-1" strike="noStrike">
                <a:solidFill>
                  <a:srgbClr val="000000"/>
                </a:solidFill>
                <a:latin typeface="Arial"/>
              </a:rPr>
              <a:t>TA projects (IV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09120" y="2133720"/>
            <a:ext cx="9106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000000"/>
                </a:solidFill>
                <a:latin typeface="Arial"/>
              </a:rPr>
              <a:t>Publifocus on in-vitro fertilization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377640">
              <a:spcBef>
                <a:spcPts val="675"/>
              </a:spcBef>
              <a:buClr>
                <a:srgbClr val="ff8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The Federal Administration is to take the results into consideration when deciding whether in-vitro fertilization is to be covered by the obligatory medical insurance policy or not</a:t>
            </a:r>
            <a:r>
              <a:rPr b="0" lang="en-GB" sz="2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5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000000"/>
                </a:solidFill>
                <a:latin typeface="Arial"/>
              </a:rPr>
              <a:t>PubliForum on research involving human beings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377640">
              <a:spcBef>
                <a:spcPts val="649"/>
              </a:spcBef>
              <a:buClr>
                <a:srgbClr val="ff8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TA-SWISS will be invited to present the results to the relevant parliamentary commissio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orkshop on Institutionalization of Participatory Advisory System, Tokyo 24th, 25th June 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4560" y="990360"/>
            <a:ext cx="9372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4000" spc="-1" strike="noStrike">
                <a:solidFill>
                  <a:srgbClr val="000000"/>
                </a:solidFill>
                <a:latin typeface="Arial"/>
              </a:rPr>
              <a:t>Role of participatory metho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95000" y="20570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ide range of possible political roles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8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arly introduction of a theme into the political agen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8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finition of objec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8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valuation of various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8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tc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direct Roles also possible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8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ostering dialogue between science and socie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8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aising consciousness of technology's social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orkshop on Institutionalization of Participatory Advisory System, Tokyo 24th, 25th June 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000000"/>
                </a:solidFill>
                <a:latin typeface="Arial"/>
              </a:rPr>
              <a:t>Our objectives are . . .</a:t>
            </a:r>
            <a:r>
              <a:rPr b="1" lang="de-DE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CH" sz="40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66400" y="2057040"/>
            <a:ext cx="9372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277920">
              <a:spcBef>
                <a:spcPts val="2024"/>
              </a:spcBef>
              <a:buClr>
                <a:srgbClr val="ff9e2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700" spc="-1" strike="noStrike">
                <a:solidFill>
                  <a:srgbClr val="000000"/>
                </a:solidFill>
                <a:latin typeface="Arial"/>
              </a:rPr>
              <a:t>to provide scientific reliable, interdisciplinary studies for target groups in order to improve public debate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71680" indent="-277920">
              <a:spcBef>
                <a:spcPts val="2024"/>
              </a:spcBef>
              <a:buClr>
                <a:srgbClr val="ff9e2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700" spc="-1" strike="noStrike">
                <a:solidFill>
                  <a:srgbClr val="000000"/>
                </a:solidFill>
                <a:latin typeface="Arial"/>
              </a:rPr>
              <a:t>to initiate a debate about technology at a pre-political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71680" indent="-277920">
              <a:spcBef>
                <a:spcPts val="2024"/>
              </a:spcBef>
              <a:buClr>
                <a:srgbClr val="ff9e2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Arial"/>
              </a:rPr>
              <a:t>to support political decision-making by providing reliable, prospective and independant TA materials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orkshop on Institutionalization of Participatory Advisory System, Tokyo 24th, 25th June 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000000"/>
                </a:solidFill>
                <a:latin typeface="Arial"/>
              </a:rPr>
              <a:t>Our objectives are . . .</a:t>
            </a:r>
            <a:r>
              <a:rPr b="1" lang="de-DE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CH" sz="40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880" y="1905120"/>
            <a:ext cx="91440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71680" indent="-277920">
              <a:buClr>
                <a:srgbClr val="ff9e2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Arial"/>
              </a:rPr>
              <a:t>to create platforms for a mutual dialogue between various groups by establishing participative forums (PubliForum, publifocus, PubliTalk)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71680" indent="-277920">
              <a:buClr>
                <a:srgbClr val="ff9e2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700" spc="-1" strike="noStrike">
                <a:solidFill>
                  <a:srgbClr val="000000"/>
                </a:solidFill>
                <a:latin typeface="Arial"/>
              </a:rPr>
              <a:t>to enhance responsibility in R&amp;D</a:t>
            </a:r>
            <a:br>
              <a:rPr sz="2700"/>
            </a:br>
            <a:r>
              <a:rPr b="0" lang="de-DE" sz="2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71680" indent="-277920">
              <a:buClr>
                <a:srgbClr val="ff9e2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700" spc="-1" strike="noStrike">
                <a:solidFill>
                  <a:srgbClr val="000000"/>
                </a:solidFill>
                <a:latin typeface="Arial"/>
              </a:rPr>
              <a:t>to strengthen national and international TA-networks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orkshop on Institutionalization of Participatory Advisory System, Tokyo 24th, 25th June 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91404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Arial"/>
              </a:rPr>
              <a:t>Our vision is . .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9448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339"/>
              </a:spcBef>
              <a:buClr>
                <a:srgbClr val="ff9e2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to seek public acceptance as </a:t>
            </a:r>
            <a:r>
              <a:rPr b="0" lang="fr-FR" sz="2500" spc="-1" strike="noStrike">
                <a:solidFill>
                  <a:srgbClr val="000000"/>
                </a:solidFill>
                <a:latin typeface="Arial"/>
              </a:rPr>
              <a:t>reliable, prospective and independant 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TA centre (national and international)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339"/>
              </a:spcBef>
              <a:buClr>
                <a:srgbClr val="ff9e2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to facilitate the dialogue between the scientific community and society at large on controversial issues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339"/>
              </a:spcBef>
              <a:buClr>
                <a:srgbClr val="ff9e2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to integrate participatory TA in policy-making processes on science and technology issues (e.g. through parliamentary hearings)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339"/>
              </a:spcBef>
              <a:buClr>
                <a:srgbClr val="ff9e2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to become a useful and reliable partner for Swiss universities and universities for applied sciences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orkshop on Institutionalization of Participatory Advisory System, Tokyo 24th, 25th June 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609480" y="533520"/>
            <a:ext cx="82296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000000"/>
                </a:solidFill>
                <a:latin typeface="Arial"/>
              </a:rPr>
              <a:t>Organisation TA-SWI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2649600" y="1828800"/>
          <a:ext cx="4094280" cy="41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49600" y="1828800"/>
                    <a:ext cx="4094280" cy="41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orkshop on Institutionalization of Participatory Advisory System, Tokyo 24th, 25th June 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95000" y="609480"/>
            <a:ext cx="8915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4000" spc="-1" strike="noStrike">
                <a:solidFill>
                  <a:srgbClr val="000000"/>
                </a:solidFill>
                <a:latin typeface="Arial"/>
              </a:rPr>
              <a:t>Internal Organis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2779560" y="1827360"/>
          <a:ext cx="4345200" cy="459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79560" y="1827360"/>
                    <a:ext cx="4345200" cy="459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orkshop on Institutionalization of Participatory Advisory System, Tokyo 24th, 25th June 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95000" y="99036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4000" spc="-1" strike="noStrike">
                <a:solidFill>
                  <a:srgbClr val="000000"/>
                </a:solidFill>
                <a:latin typeface="Arial"/>
              </a:rPr>
              <a:t>Overview of TA Activities in 200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-447840" y="1927080"/>
          <a:ext cx="9732960" cy="426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447840" y="1927080"/>
                    <a:ext cx="973296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orkshop on Institutionalization of Participatory Advisory System, Tokyo 24th, 25th June 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13T13:19:56Z</dcterms:created>
  <dc:creator>-</dc:creator>
  <dc:description/>
  <dc:language>en-US</dc:language>
  <cp:lastModifiedBy>若松征男</cp:lastModifiedBy>
  <cp:lastPrinted>2001-05-15T09:16:29Z</cp:lastPrinted>
  <dcterms:modified xsi:type="dcterms:W3CDTF">2004-06-30T02:23:02Z</dcterms:modified>
  <cp:revision>95</cp:revision>
  <dc:subject/>
  <dc:title>Kein Folientite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685130746</vt:r8>
  </property>
  <property fmtid="{D5CDD505-2E9C-101B-9397-08002B2CF9AE}" pid="3" name="_AuthorEmail">
    <vt:lpwstr>Gary.Fliszar@deza.admin.ch</vt:lpwstr>
  </property>
  <property fmtid="{D5CDD505-2E9C-101B-9397-08002B2CF9AE}" pid="4" name="_AuthorEmailDisplayName">
    <vt:lpwstr>Fliszar Gary DEZA FLG</vt:lpwstr>
  </property>
  <property fmtid="{D5CDD505-2E9C-101B-9397-08002B2CF9AE}" pid="5" name="_EmailSubject">
    <vt:lpwstr>040609Vortrag S. Bellucci  japan ins englische zu übersetzen_eng_FLG.ppt</vt:lpwstr>
  </property>
  <property fmtid="{D5CDD505-2E9C-101B-9397-08002B2CF9AE}" pid="6" name="_ReviewingToolsShownOnce">
    <vt:lpwstr/>
  </property>
</Properties>
</file>