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04880" y="743040"/>
            <a:ext cx="536400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441B6B-1EA8-4445-B63B-975CCF10E4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04880" y="76212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60" y="4794120"/>
            <a:ext cx="543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T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tersucht die sozialen, ökologischen und wirtschaftlichen Auswirkungen von neuen technologischen Verfahren und Produkt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chtig an dieser Definition sind di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chiedenen Dimension, die berücksichtig werden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s fördert ein interdiziplinär Ansat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ch wichtig an dieser Definition ist, dass wir nicht n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n als Produk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etrachten (zum Beispiel ein Super-Computer), sondern auch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schen Verfahre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zum Beispiel Datensammlung und Datenauswertu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TA befasst sich mit den verschiedenen Interessen und Sichtweisen (von Experten, Entscheidungsträger, betroffenen Gruppen et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 anderen Worten, TA ist umfassend und betrachtet ein Problem aus verschiedenen Sichtwinkel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59680" cy="370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0160"/>
            <a:ext cx="504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Mit dem Schwerpunktthema « Informationsgesellschaft » thematisiert und untersucht das ZTA die positiven und negativen Folgen der zunehmenden Informatisierung der Gesell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) Die prioritäre Aufgabe des ZTA ist es, die politischen Entscheidungsträger zu bera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iel ist auch, die öffentliche Diskussion anzuregen, insbesondere durch die Medi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Unsere Projekte entsprechen den Schwerpunk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ife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nformationsgesellschaf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Mobilität und Ener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) Meistens machen wir TA-Studien (wie zum Beispiel die heutige Studie über den gläsernen Kund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er wir machen auch partizipative Projekte, wie das PubliFor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0B58-DC3A-430B-9511-9C154EE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B3F80-6CDF-4751-89BB-C1757A7F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3F4DB-9214-4748-B79A-2B1CA2C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1AC9F-4150-4F73-B352-C14B6092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26525-11AA-4881-AF51-5E9D118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2C0B-BC2D-4AAC-9C64-49DFCC0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4352-505E-4E06-97F5-F2522E6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F040-6E2D-4615-B0A5-07B2619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14F92-1D7B-4111-AA68-62AB2B9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8EBE-62EB-46F1-9905-1E0F9488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2B2A-7285-4AB3-95EE-297B560A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F21B4-60FB-461D-AED6-CF0E64D3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304920"/>
            <a:ext cx="8915400" cy="533160"/>
          </a:xfrm>
          <a:prstGeom prst="rect">
            <a:avLst/>
          </a:prstGeom>
          <a:solidFill>
            <a:srgbClr val="ff8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8601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95360" y="64771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46320" y="304920"/>
            <a:ext cx="454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49680" y="1908000"/>
            <a:ext cx="89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A-SWISS bold Kopie" descr=""/>
          <p:cNvPicPr/>
          <p:nvPr/>
        </p:nvPicPr>
        <p:blipFill>
          <a:blip r:embed="rId2"/>
          <a:stretch/>
        </p:blipFill>
        <p:spPr>
          <a:xfrm>
            <a:off x="8915400" y="304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11960" y="624852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www.ta-swiss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4934-0D12-4356-95B3-DBC30C33FE68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D382-428C-4121-8164-C6C7B893D8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922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ticipatory Technology Assessment: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Bridge between Science and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r. Sergio Bellucc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irector TA-SWIS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 highlights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" y="1709640"/>
            <a:ext cx="4179600" cy="2633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4191120" cy="25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41148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Functional Foo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Human stem cell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Xenotransplanta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Gene therap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Nanotechnolog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83160" y="1905120"/>
            <a:ext cx="5181120" cy="2206080"/>
            <a:chOff x="4583160" y="1905120"/>
            <a:chExt cx="5181120" cy="2206080"/>
          </a:xfrm>
        </p:grpSpPr>
        <p:sp>
          <p:nvSpPr>
            <p:cNvPr id="117" name=""/>
            <p:cNvSpPr/>
            <p:nvPr/>
          </p:nvSpPr>
          <p:spPr>
            <a:xfrm>
              <a:off x="4705200" y="1994400"/>
              <a:ext cx="5058720" cy="2116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3160" y="1905120"/>
              <a:ext cx="5093640" cy="211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000" y="1916640"/>
              <a:ext cx="50932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nformatio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Computer-based Patient Record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The Transparent Customer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Pervasive Computing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book «Internet - Schöne neue Welt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4419720"/>
            <a:ext cx="3809160" cy="1523160"/>
            <a:chOff x="5334120" y="4419720"/>
            <a:chExt cx="3809160" cy="1523160"/>
          </a:xfrm>
        </p:grpSpPr>
        <p:sp>
          <p:nvSpPr>
            <p:cNvPr id="121" name=""/>
            <p:cNvSpPr/>
            <p:nvPr/>
          </p:nvSpPr>
          <p:spPr>
            <a:xfrm>
              <a:off x="5414760" y="4479840"/>
              <a:ext cx="3728520" cy="1463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4419720"/>
              <a:ext cx="3728160" cy="146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86400" y="4495680"/>
            <a:ext cx="3505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„Technology Assessment and Transpor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419720"/>
            <a:ext cx="4723560" cy="2285280"/>
            <a:chOff x="533520" y="4419720"/>
            <a:chExt cx="4723560" cy="228528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419720"/>
              <a:ext cx="4723560" cy="2285280"/>
              <a:chOff x="533520" y="4419720"/>
              <a:chExt cx="4723560" cy="228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33960" y="451116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3520" y="441972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33520" y="4511160"/>
              <a:ext cx="447552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articipatory 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Transplantation Medicin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Genetic Engineering and Nutrition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cus «Human stem cell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riteria for Selecting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Relevance, in view of: 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pending political decision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current research activ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egree of controversy invol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Impact (number of people affected) of the probable consequences of a given techn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Availability of foreign stud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61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Possible synergies with other activities of scientific or administrative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bodi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reconditions for Successful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991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tional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imely identification of topics an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Success Factors for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ional Setting of TA Organ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-Produc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Repor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cientific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hort 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tizen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ct shee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ticipatory T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r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c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-Produ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84280" indent="0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Events and commun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etings with polit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blic confere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edia con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e Publi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80773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rum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75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PubliForum is a process involving about 30 lay citizens selected from the general public where they ca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14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obtain information on a particular top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select experts and take part in an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active dialogue with them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formulate recommendations and includ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m in the citizen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23018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ubliForum: the prep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stitution of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vitation sent to about 10’000 persons (randomly select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election of about 30 persons according to socio-demographic characteristics (age, sex, region, educ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Fact sheets for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The mai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wo preparatory week-end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basic information on the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finition of the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oice of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ubliForum (4 day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ialogue between lay panel and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writes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presents the report +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1840" y="2742840"/>
            <a:ext cx="872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s affiliated to the Swiss Science and Technology Counci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has a mandate to support (political) decision making related to new technologi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2286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Recommandations for decision-makers (in politics, public administration, industry and research) on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general public´s preference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understanding of th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problem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hopes and f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2876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rum: Particular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the general public to be drawn into the debate on controversial technologies at an early stag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s dialogue between the general public and the experts, contributes to an informed public deb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the population with a platform to express their expectations and conce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any PubliFor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Electricity and Society » 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Genetic engineering and Food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Transplantation medicine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Research involving human being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of discussions among citizens, modeled on «focus groups»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d discussions based on prepared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ue conducted exclusively among citizens (randomly selected or among those persons directly concerned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ganizers analyze the discussions (opinions, arguments) and publish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921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ruitment of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ail (randomly sent out inv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a chosen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for the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. 10 Information fact-shee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one or two experts for an introduction to the top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and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4 and 6 discuss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different linguistic regions of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5 participants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ory briefing followed by an approx. 2-hou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led by a 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ing and subsequent publication of a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ment given to a profession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 compilation of contrasting and well-thought-out opinions on aspects of technolog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of comparing different populat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10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s to the decision-makers (politicians, administration, research, industry, etc.) quality information concer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pinions and the values of the popul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supporting arguments put fo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wo publifoci, soon a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 cell research (spring 200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vitro fertilization (spring 200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pricing (2004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n human be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9048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how young people think about certain aspects of research on human bein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the awareness of youth and young adults for what the forthcoming Federal Law will sa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dissemination of a comprehensive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920" y="2285640"/>
            <a:ext cx="89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using ”classical” TA studies involving scientific analysis and expert discussions (interdisciplinary studie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by participative methods (PubliForum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, publifocus, etc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) involving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municates its results to decision makers and to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 –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2057400"/>
            <a:ext cx="88009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s (documentation, preliminary interviews, formulation of the question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with basic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2 working groups; summary minutes drawn up by the you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of the results in plenary mee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Talk – The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is on yout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d with a concrete cas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s provide background inform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working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nd discussion of the results in a plenary mee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report compiled by the organizer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ubliTalk – 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9296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/teachers applaud PubliT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are willing to participate in experiments provided there is: comprehensive information, independent consultative bo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Electricity and Society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ntributed to the promotion of a new kind of dialogue between science and socie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Genetic engineering and food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results have been mentionned in the Parliament (in commission and in the plenum), when the Federal Law on genetic engineering was discus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Integration of the recommendations in the Federal Council´s submission to parliament on the Federal Law on Transplantation</a:t>
            </a:r>
            <a:br>
              <a:rPr sz="2600"/>
            </a:b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Application by the St. Gall cantonal hospital for the setting-up of a department for the psychological care of those involved in a transpl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105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TA-SWISS has been invited to present the results of the PubliForum to the Commission on Social Security and Health of the Assembly of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stem cel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 of the civil-society debate organized by the Foundation Science et Cité on stem cells (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910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in-vitro ferti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deral Administration is to take the results into consideration when deciding whether in-vitro fertilization is to be covered by the obligatory medical insurance policy or not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rum on research involving human being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-SWISS will be invited to present the results to the relevant parliamentary com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Role of participatory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 range of possible political ro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troduction of a theme into the political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variou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rect Roles also possib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ing dialogue between scienc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consciousness of technology's so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205704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provide scientific reliable, interdisciplinary studies for target groups in order to improve public deb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initiate a debate about technology at a pre-political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support political decision-making by providing reliable, prospective and independant TA material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create platforms for a mutual dialogue between various groups by establishing participative forums (PubliForum, publifocus, PubliTalk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enhance responsibility in R&amp;D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strengthen national and international TA-net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ur vision 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ek public acceptance a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liable, prospective and independan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 centre (national and internationa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facilitate the dialogue between the scientific community and society at large on controversial issu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integrate participatory TA in policy-making processes on science and technology issues (e.g. through parliamentary hearing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become a useful and reliable partner for Swiss universities and universities for applied scien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33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ganisation TA-SW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49600" y="1828800"/>
          <a:ext cx="40942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828800"/>
                    <a:ext cx="40942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Internal Organ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9560" y="1827360"/>
          <a:ext cx="4345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827360"/>
                    <a:ext cx="4345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Overview of TA Activities in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47840" y="1927080"/>
          <a:ext cx="97329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27080"/>
                    <a:ext cx="97329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3:19:56Z</dcterms:created>
  <dc:creator>-</dc:creator>
  <dc:description/>
  <dc:language>en-US</dc:language>
  <cp:lastModifiedBy>若松征男</cp:lastModifiedBy>
  <cp:lastPrinted>2001-05-15T09:16:29Z</cp:lastPrinted>
  <dcterms:modified xsi:type="dcterms:W3CDTF">2004-06-30T02:23:02Z</dcterms:modified>
  <cp:revision>9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5130746</vt:r8>
  </property>
  <property fmtid="{D5CDD505-2E9C-101B-9397-08002B2CF9AE}" pid="3" name="_AuthorEmail">
    <vt:lpwstr>Gary.Fliszar@deza.admin.ch</vt:lpwstr>
  </property>
  <property fmtid="{D5CDD505-2E9C-101B-9397-08002B2CF9AE}" pid="4" name="_AuthorEmailDisplayName">
    <vt:lpwstr>Fliszar Gary DEZA FLG</vt:lpwstr>
  </property>
  <property fmtid="{D5CDD505-2E9C-101B-9397-08002B2CF9AE}" pid="5" name="_EmailSubject">
    <vt:lpwstr>040609Vortrag S. Bellucci  japan ins englische zu übersetzen_eng_FLG.ppt</vt:lpwstr>
  </property>
  <property fmtid="{D5CDD505-2E9C-101B-9397-08002B2CF9AE}" pid="6" name="_ReviewingToolsShownOnce">
    <vt:lpwstr/>
  </property>
</Properties>
</file>