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2800" y="3984840"/>
            <a:ext cx="842004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67652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2800" y="398484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7400" y="398484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271116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040" y="1676520"/>
            <a:ext cx="271116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920" y="1676520"/>
            <a:ext cx="271116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2800" y="3984840"/>
            <a:ext cx="271116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040" y="3984840"/>
            <a:ext cx="271116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920" y="3984840"/>
            <a:ext cx="271116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4108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7400" y="1676520"/>
            <a:ext cx="4108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760" y="266400"/>
            <a:ext cx="8998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7400" y="1676520"/>
            <a:ext cx="4108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2800" y="398484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4108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67652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7400" y="398484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676520"/>
            <a:ext cx="410868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2800" y="3984840"/>
            <a:ext cx="8420040" cy="21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89000" y="1600200"/>
          <a:ext cx="485640" cy="511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1600200"/>
                    <a:ext cx="48564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1371600"/>
            <a:ext cx="86947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901"/>
              </a:spcBef>
              <a:buClr>
                <a:srgbClr val="063de8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9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440" indent="-217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440" indent="-217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Societal Interaction in Sci/Tech Policy Analysis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irector, Lars Klü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The Danish Board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Japan, June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Technology assessment is communication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ules of communication depends upon the involved 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 universal communication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022640" y="1523880"/>
          <a:ext cx="541044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2640" y="1523880"/>
                    <a:ext cx="541044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Aim &amp; situation determines the tool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8420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we look for knowledge, norms or solu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m should speak with wh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 of technology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of political/public/scientific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vernmental policies / political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role can be pla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does it take to interve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mands for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Some tools at the DBT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7876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tizen Consul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ensus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itizen Su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pective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view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ting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keholder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cy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enario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0200" y="1523880"/>
            <a:ext cx="4705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erences &amp;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uctured Brainst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visory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liamentary H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ly Warning; Brief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blic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l Debat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bate Products/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Societal interaction in TA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2800" y="1676160"/>
            <a:ext cx="8528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volve new players to pool knowledge, exchange views and find new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 independent third part, make platforms for constructive stakeholder dialog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ive voice to citizens. As persons, consumers, taxpayers, and legitimate democratic ass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pTA: Expanded TA mission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528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open processe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f assessment,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nsure a common, diverse knowledge-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annel dialogues on interests 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volve else overlooked pla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e able to deal with uncertai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ake broadly accept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tegrate communication into th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Impacts of participation in TA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1406520"/>
          <a:ext cx="82296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06520"/>
                    <a:ext cx="8229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Why participation?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principle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rching social co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ing uncertainty and in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olving th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tizen and affected as democratic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for profes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ing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luding broad knowledge and valu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uring results to have high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Prerequisites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litical cultur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f “open democrac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itutional setting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llows for expansion of method range into open TA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Budge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makes public event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aff competencie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s process mana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volved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actors back u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itution truste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s independent 3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" y="-890640"/>
            <a:ext cx="990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" y="7108920"/>
            <a:ext cx="990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4360" y="198108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Future Search Method 1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hen the situation is block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one knows th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-one are allowed to solv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ll actors in the same room for 3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s responsibility for the 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ree on the pres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ree on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action pl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Future Search 2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stainable hunting in Greenland, resul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ducation plans on sustainable h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 on weapo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dependent council on sustainable use of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Overview of presentation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Danish Board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, aims, 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ethodology of 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 between problem and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broad range of method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special qualities of Particip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ethod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Interview Meeting 1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hen polling or focus groups are not enoug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lected, informed answer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alitative as well as quantita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nswers, as well as the reasons for the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Interview meeting 2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5-50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½ 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on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alogue with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lling out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p Interviews with 6-8 peopl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imal Cloning, Nov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no-technology, May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Work Plan 2003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ture of the Paten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Treatment of Life-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ulnerability of ICT Infra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il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Climate – 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ternatives to Animal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ildren, health and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gital Rights and Fre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Work Plan 2004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280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System scenarios (Future Pan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T Privacy (Expert Work Group + International Assess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lobalisation of Knowledge Intensive Work (Expert work Group + Confer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emical Producing GMOs (Citizen Ju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down of private/work borders (Deb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vasive Health Care (Workshop and Confer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1160" y="246240"/>
            <a:ext cx="891540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Danish Board of Technology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18280" cy="49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nstituted by law 1985 + 19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lf governing, independent in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cted to Ministry of Science, Technology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mal link to Committee of Science &amp; Technology, Danish Parli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airman, Board, and Board of Representatives appointed by Minister and Committee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480" y="221760"/>
            <a:ext cx="8915400" cy="109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Aims &amp; Objectives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401480"/>
            <a:ext cx="8917200" cy="49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llow the technological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arry out comprehensive assessments on possibilities and consequences of technology for society and the citi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municate results to decision-makers and the population, and to support the technology deb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ive advice to Parliament and 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Organisation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600200"/>
          <a:ext cx="7229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7229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8920" y="130320"/>
            <a:ext cx="891540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The Secretariat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0800" y="1447560"/>
            <a:ext cx="8917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Staf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½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IT &amp;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ct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 project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,5 project secret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ime-limited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-10 students &amp; project consul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 mill.DKK ~ 175 mill 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DBT principles of PTA methodology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5788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ly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needed by decision-mak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ol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f exp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rms and interest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f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f citiz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ransparent and fai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uild upon th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mocratic tra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3 dimensions of policy analysis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2120" y="1828800"/>
            <a:ext cx="8762760" cy="4495320"/>
            <a:chOff x="762120" y="1828800"/>
            <a:chExt cx="8762760" cy="4495320"/>
          </a:xfrm>
        </p:grpSpPr>
        <p:sp>
          <p:nvSpPr>
            <p:cNvPr id="58" name=""/>
            <p:cNvSpPr/>
            <p:nvPr/>
          </p:nvSpPr>
          <p:spPr>
            <a:xfrm>
              <a:off x="6316920" y="4937760"/>
              <a:ext cx="32076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cision-makers; Networks; Citizens / Transparent proced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04440" y="4937760"/>
              <a:ext cx="391248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reate legitimate and accepted solu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120" y="4937760"/>
              <a:ext cx="164232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agma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6920" y="3551040"/>
              <a:ext cx="32076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itizens; Stakeholders / Networking; Social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4440" y="3551040"/>
              <a:ext cx="391248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cover and share norms an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3551040"/>
              <a:ext cx="164232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rm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16920" y="2363040"/>
              <a:ext cx="320760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erts; Users / Operative ai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04440" y="2363040"/>
              <a:ext cx="391248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ablish knowledge-base; suggest knowledge based solu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2363040"/>
              <a:ext cx="1642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gn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16920" y="1828800"/>
              <a:ext cx="320760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ctors / fu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04440" y="1828800"/>
              <a:ext cx="39124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ethod dem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1828800"/>
              <a:ext cx="164232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men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1828800"/>
              <a:ext cx="876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120" y="2363040"/>
              <a:ext cx="876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3551040"/>
              <a:ext cx="876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4937760"/>
              <a:ext cx="876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324120"/>
              <a:ext cx="876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1828800"/>
              <a:ext cx="0" cy="449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04440" y="1828800"/>
              <a:ext cx="0" cy="44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6920" y="1828800"/>
              <a:ext cx="0" cy="44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524880" y="1828800"/>
              <a:ext cx="0" cy="449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9760" y="266400"/>
            <a:ext cx="899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81d58"/>
                </a:solidFill>
                <a:latin typeface="Times New Roman"/>
              </a:rPr>
              <a:t>Demand and response</a:t>
            </a:r>
            <a:endParaRPr b="1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752480"/>
          <a:ext cx="8915400" cy="43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91540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2:44:23Z</dcterms:created>
  <dc:creator>Lars Klüver</dc:creator>
  <dc:description/>
  <dc:language>en-US</dc:language>
  <cp:lastModifiedBy>若松征男</cp:lastModifiedBy>
  <cp:lastPrinted>1998-10-09T18:18:08Z</cp:lastPrinted>
  <dcterms:modified xsi:type="dcterms:W3CDTF">2004-06-30T02:20:02Z</dcterms:modified>
  <cp:revision>46</cp:revision>
  <dc:subject/>
  <dc:title>The Danish Board of Technology</dc:title>
</cp:coreProperties>
</file>