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383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704880" y="743040"/>
            <a:ext cx="536400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5041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383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ACF8CA-B978-4CA6-8DD2-1D3C368913A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704880" y="762120"/>
            <a:ext cx="5361120" cy="3711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02880" y="4702320"/>
            <a:ext cx="504180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3560" y="4794120"/>
            <a:ext cx="543240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) T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untersucht die sozialen, ökologischen und wirtschaftlichen Auswirkungen von neuen technologischen Verfahren und Produkt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ichtig an dieser Definition sind di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erschiedenen Dimension, die berücksichtig werden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as fördert ein interdiziplinär Ansat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ch wichtig an dieser Definition ist, dass wir nicht nur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echnologien als Produk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betrachten (zum Beispiel ein Super-Computer), sondern auch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echnologischen Verfahre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zum Beispiel Datensammlung und Datenauswertu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) TA befasst sich mit den verschiedenen Interessen und Sichtweisen (von Experten, Entscheidungsträger, betroffenen Gruppen etc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 anderen Worten, TA ist umfassend und betrachtet ein Problem aus verschiedenen Sichtwinkel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706320" y="743040"/>
            <a:ext cx="5359680" cy="3709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2880" y="4700160"/>
            <a:ext cx="5041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) Mit dem Schwerpunktthema « Informationsgesellschaft » thematisiert und untersucht das ZTA die positiven und negativen Folgen der zunehmenden Informatisierung der Gesellschaf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06320" y="743040"/>
            <a:ext cx="5361120" cy="37116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2880" y="4702320"/>
            <a:ext cx="504180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) Die prioritäre Aufgabe des ZTA ist es, die politischen Entscheidungsträger zu bera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Ziel ist auch, die öffentliche Diskussion anzuregen, insbesondere durch die Medi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) Unsere Projekte entsprechen den Schwerpunkt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Life scie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Informationsgesellschaft 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 Mobilität und Energ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) Meistens machen wir TA-Studien (wie zum Beispiel die heutige Studie über den gläsernen Kunde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ber wir machen auch partizipative Projekte, wie das PubliForu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46206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5C3C9-2B41-41AC-8BA5-EF5AC8A1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11E69-8328-46A4-803F-ACF658AD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E3EA2-9D9B-45F7-A3AC-0341F316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7DA0F-8145-4F56-8A54-A4BD2A25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64580-BE7F-415B-8975-09D222FD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000" y="990360"/>
            <a:ext cx="89154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2CDB3-5E21-4B75-A874-62F68E3D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FF2F4-356A-46C6-A400-06503932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34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0AB71-4A25-4C37-BDDC-867978A5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06BD4-3429-4EAB-A862-629E3C90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000" y="46206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5D221-2776-495B-8A85-E7BE30E3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34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3DD51-464C-4FBA-8D6E-C8F2E55E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964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00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0964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6929A-5110-4C74-A8D1-46B0E310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990360"/>
            <a:ext cx="89154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304920"/>
            <a:ext cx="8915400" cy="533160"/>
          </a:xfrm>
          <a:prstGeom prst="rect">
            <a:avLst/>
          </a:prstGeom>
          <a:solidFill>
            <a:srgbClr val="ff8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f86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buClr>
                <a:srgbClr val="ff8601"/>
              </a:buClr>
              <a:buSzPct val="90000"/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buClr>
                <a:srgbClr val="ff8601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95360" y="6477120"/>
            <a:ext cx="5829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146320" y="304920"/>
            <a:ext cx="4540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49680" y="1908000"/>
            <a:ext cx="897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TA-SWISS bold Kopie" descr=""/>
          <p:cNvPicPr/>
          <p:nvPr/>
        </p:nvPicPr>
        <p:blipFill>
          <a:blip r:embed="rId2"/>
          <a:stretch/>
        </p:blipFill>
        <p:spPr>
          <a:xfrm>
            <a:off x="8915400" y="3049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311960" y="6248520"/>
            <a:ext cx="22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www.ta-swiss.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1828440"/>
            <a:ext cx="8420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534C-E742-46B5-9D07-F3283ADC52B1}" type="datetime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6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47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6CAD-5A94-4E55-B0A6-5E33A0B2C2D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922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articipatory Technology Assessment: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8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 Bridge between Science and Socie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457200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3352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43352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Dr. Sergio Bellucci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43352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Director TA-SWIS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A highlights in the p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6080" y="1709640"/>
            <a:ext cx="4179600" cy="263376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676520"/>
            <a:ext cx="4191120" cy="255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76520"/>
            <a:ext cx="411480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ife Sc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 «Functional Food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«Human stem cells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 «Xenotransplantation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«Gene therapy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 «Nanotechnology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83160" y="1905120"/>
            <a:ext cx="5181120" cy="2206080"/>
            <a:chOff x="4583160" y="1905120"/>
            <a:chExt cx="5181120" cy="2206080"/>
          </a:xfrm>
        </p:grpSpPr>
        <p:sp>
          <p:nvSpPr>
            <p:cNvPr id="117" name=""/>
            <p:cNvSpPr/>
            <p:nvPr/>
          </p:nvSpPr>
          <p:spPr>
            <a:xfrm>
              <a:off x="4705200" y="1994400"/>
              <a:ext cx="5058720" cy="21168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83160" y="1905120"/>
              <a:ext cx="5093640" cy="211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1000" y="1916640"/>
              <a:ext cx="5093280" cy="21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5120" indent="-19512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nformation Socie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-study «Computer-based Patient Records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-study «The Transparent Customer»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-study «Pervasive Computing»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-book «Internet - Schöne neue Welt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334120" y="4419720"/>
            <a:ext cx="3809160" cy="1523160"/>
            <a:chOff x="5334120" y="4419720"/>
            <a:chExt cx="3809160" cy="1523160"/>
          </a:xfrm>
        </p:grpSpPr>
        <p:sp>
          <p:nvSpPr>
            <p:cNvPr id="121" name=""/>
            <p:cNvSpPr/>
            <p:nvPr/>
          </p:nvSpPr>
          <p:spPr>
            <a:xfrm>
              <a:off x="5414760" y="4479840"/>
              <a:ext cx="3728520" cy="14630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4120" y="4419720"/>
              <a:ext cx="3728160" cy="1463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486400" y="4495680"/>
            <a:ext cx="35053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„Technology Assessment and Transport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3520" y="4419720"/>
            <a:ext cx="4723560" cy="2285280"/>
            <a:chOff x="533520" y="4419720"/>
            <a:chExt cx="4723560" cy="2285280"/>
          </a:xfrm>
        </p:grpSpPr>
        <p:grpSp>
          <p:nvGrpSpPr>
            <p:cNvPr id="125" name=""/>
            <p:cNvGrpSpPr/>
            <p:nvPr/>
          </p:nvGrpSpPr>
          <p:grpSpPr>
            <a:xfrm>
              <a:off x="533520" y="4419720"/>
              <a:ext cx="4723560" cy="2285280"/>
              <a:chOff x="533520" y="4419720"/>
              <a:chExt cx="4723560" cy="2285280"/>
            </a:xfrm>
          </p:grpSpPr>
          <p:sp>
            <p:nvSpPr>
              <p:cNvPr id="126" name=""/>
              <p:cNvSpPr/>
              <p:nvPr/>
            </p:nvSpPr>
            <p:spPr>
              <a:xfrm>
                <a:off x="633960" y="4511160"/>
                <a:ext cx="4623120" cy="219384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33520" y="4419720"/>
                <a:ext cx="4623120" cy="2193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533520" y="4511160"/>
              <a:ext cx="4475520" cy="19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5120" indent="-19512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participatory 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ubliForum «Transplantation Medicine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ubliForum «Genetic Engineering and Nutrition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ublifocus «Human stem cells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Criteria for Selecting 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88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Relevance, in view of: 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- pending political decisions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- current research activiti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88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Degree of controversy involve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88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Impact (number of people affected) of the probable consequences of a given technolog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88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Availability of foreign studi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361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Possible synergies with other activities of scientific or administrative</a:t>
            </a: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 bodie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reconditions for Successful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9913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Institutional indepen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Timely identification of topics and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Success Factors for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991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Instituional Setting of TA Organ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Credi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-Product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9067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9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TA-Report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scientific repo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short vers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itizen repo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fact shee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participatory TA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PubliFor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publifoc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PubliTal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A-Product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90476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384280" indent="0">
              <a:lnSpc>
                <a:spcPct val="4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TA-Events and communicatio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meetings with politici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ublic conference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media confere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web-s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8377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he Publi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8077320" cy="368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Forum: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9753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 PubliForum is a process involving about 30 lay citizens selected from the general public where they ca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74680">
              <a:lnSpc>
                <a:spcPct val="145000"/>
              </a:lnSpc>
              <a:spcBef>
                <a:spcPts val="2024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obtain information on a particular top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74680">
              <a:lnSpc>
                <a:spcPct val="75000"/>
              </a:lnSpc>
              <a:spcBef>
                <a:spcPts val="2024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select experts and take part in an </a:t>
            </a:r>
            <a:br>
              <a:rPr sz="2700"/>
            </a:b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active dialogue with them</a:t>
            </a: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74680">
              <a:lnSpc>
                <a:spcPct val="75000"/>
              </a:lnSpc>
              <a:spcBef>
                <a:spcPts val="2024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formulate recommendations and include </a:t>
            </a:r>
            <a:br>
              <a:rPr sz="2700"/>
            </a:b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m in the citizen re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238880" y="3200400"/>
            <a:ext cx="230184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PubliForum: the prepa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Constitution of the citizens pan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invitation sent to about 10’000 persons (randomly selecte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selection of about 30 persons according to socio-demographic characteristics (age, sex, region, educ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Fact sheets for the citizens pan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ubliForum: The main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Two preparatory week-end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basic information on the iss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definition of the ques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hoice of expe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PubliForum (4 days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dialogue between lay panel and expe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he lay panel writes a re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he lay panel presents the report + discu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wiss Center for Technology Assessment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A-SWIS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1840" y="2742840"/>
            <a:ext cx="8721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is affiliated to the Swiss Science and Technology Counci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has a mandate to support (political) decision making related to new technologies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8377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ubliForum: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2286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Recommandations for decision-makers (in politics, public administration, industry and research) on 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 general public´s preferences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ir understanding of the </a:t>
            </a:r>
            <a:br>
              <a:rPr sz="2700"/>
            </a:b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problem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ir hopes and fear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05720" y="3429000"/>
            <a:ext cx="287640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Forum: Particularit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2188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s the general public to be drawn into the debate on controversial technologies at an early stag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2188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sters dialogue between the general public and the experts, contributes to an informed public deb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2188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s the population with a platform to express their expectations and concer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8377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Many PubliForu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7521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Electricity and Society » 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Genetic engineering and Food »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Transplantation medicine »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Research involving human being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focus: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ies of discussions among citizens, modeled on «focus groups»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uctured discussions based on prepared question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alogue conducted exclusively among citizens (randomly selected or among those persons directly concerned)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rganizers analyze the discussions (opinions, arguments) and publish a re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focus: 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921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ruitment of participant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 algn="just">
              <a:lnSpc>
                <a:spcPct val="9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mail (randomly sent out invit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a chosen organiz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ation for the participant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49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x. 10 Information fact-sheet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ion of one or two experts for an introduction to the topi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ad 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ependent and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focus: 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000" y="18284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 4 and 6 discussion group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different linguistic regions of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15 participants in a discuss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tory briefing followed by an approx. 2-hour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ion led by a mod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iting and subsequent publication of a repor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ignment given to a professional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focus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ula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es a compilation of contrasting and well-thought-out opinions on aspects of technology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ility of comparing different population group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focus: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360" y="1980720"/>
            <a:ext cx="9105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mits to the decision-makers (politicians, administration, research, industry, etc.) quality information concern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pinions and the values of the population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ical supporting arguments put fo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Two publifoci, soon a thi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m cell research (spring 2002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-vitro fertilization (spring 2003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tur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ad pricing (2004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Tal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on human being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ms and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9048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ing how young people think about certain aspects of research on human being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ising the awareness of youth and young adults for what the forthcoming Federal Law will say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ation and dissemination of a comprehensive repor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9296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wiss Center for Technology Assessment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A-SWIS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5920" y="2285640"/>
            <a:ext cx="89535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63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evaluates technologies using ”classical” TA studies involving scientific analysis and expert discussions (interdisciplinary studies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63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evaluates technologies by participative methods (PubliForum</a:t>
            </a:r>
            <a:r>
              <a:rPr b="0" lang="fr-CH" sz="2700" spc="-1" strike="noStrike">
                <a:solidFill>
                  <a:srgbClr val="000000"/>
                </a:solidFill>
                <a:latin typeface="Arial"/>
              </a:rPr>
              <a:t>, publifocus, etc.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) involving the general public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63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communicates its results to decision makers and to the general public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Talk – 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2666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360" y="2057400"/>
            <a:ext cx="880092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s (documentation, preliminary interviews, formulation of the question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tion with basic inform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ion in 2 working groups; summary minutes drawn up by the youth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 of the results in plenary mee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Talk – The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us is on youth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ed with a concrete cas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erts provide background informatio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ion in working group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 and discussion of the results in a plenary meeting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mmary report compiled by the organizers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6858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ubliTalk – 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666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362320"/>
            <a:ext cx="929664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s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1687"/>
              </a:spcBef>
              <a:buClr>
                <a:srgbClr val="ff9e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th/teachers applaud PubliTal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1687"/>
              </a:spcBef>
              <a:buClr>
                <a:srgbClr val="ff9e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th are willing to participate in experiments provided there is: comprehensive information, independent consultative bod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mpacts of participatory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 project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23623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PubliForum « Electricity and Society »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ontributed to the promotion of a new kind of dialogue between science and societ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PubliForum « Genetic engineering and food »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he results have been mentionned in the Parliament (in commission and in the plenum), when the Federal Law on genetic engineering was discusse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mpacts of participatory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 projects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9296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900" spc="-1" strike="noStrike">
                <a:solidFill>
                  <a:srgbClr val="000000"/>
                </a:solidFill>
                <a:latin typeface="Arial"/>
              </a:rPr>
              <a:t>PubliForum on Transplantation medicin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18756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Integration of the recommendations in the Federal Council´s submission to parliament on the Federal Law on Transplantation</a:t>
            </a:r>
            <a:br>
              <a:rPr sz="2600"/>
            </a:b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18756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Application by the St. Gall cantonal hospital for the setting-up of a department for the psychological care of those involved in a transpla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mpacts of participatory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 projects (I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360" y="1905120"/>
            <a:ext cx="9105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900" spc="-1" strike="noStrike">
                <a:solidFill>
                  <a:srgbClr val="000000"/>
                </a:solidFill>
                <a:latin typeface="Arial"/>
              </a:rPr>
              <a:t>PubliForum on Transplantation medicine</a:t>
            </a: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38412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TA-SWISS has been invited to present the results of the PubliForum to the Commission on Social Security and Health of the Assembly of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ublifocus on stem cell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38412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rt of the civil-society debate organized by the Foundation Science et Cité on stem cells (200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mpacts of participatory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 projects (IV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910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ublifocus on in-vitro fertilizatio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3776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Federal Administration is to take the results into consideration when deciding whether in-vitro fertilization is to be covered by the obligatory medical insurance policy or not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ubliForum on research involving human being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37764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A-SWISS will be invited to present the results to the relevant parliamentary commi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Role of participatory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20570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 range of possible political rol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rly introduction of a theme into the political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ition of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of various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c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rect Roles also possibl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stering dialogue between science and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ising consciousness of technology's social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ur objectives are . . .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400" y="2057040"/>
            <a:ext cx="937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277920">
              <a:spcBef>
                <a:spcPts val="2024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to provide scientific reliable, interdisciplinary studies for target groups in order to improve public debat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spcBef>
                <a:spcPts val="2024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to initiate a debate about technology at a pre-political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spcBef>
                <a:spcPts val="2024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o support political decision-making by providing reliable, prospective and independant TA material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ur objectives are . . .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o create platforms for a mutual dialogue between various groups by establishing participative forums (PubliForum, publifocus, PubliTalk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to enhance responsibility in R&amp;D</a:t>
            </a:r>
            <a:br>
              <a:rPr sz="2700"/>
            </a:b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to strengthen national and international TA-network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Our vision is 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9448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39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o seek public acceptance as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reliable, prospective and independant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 centre (national and international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39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o facilitate the dialogue between the scientific community and society at large on controversial issu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39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o integrate participatory TA in policy-making processes on science and technology issues (e.g. through parliamentary hearing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39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o become a useful and reliable partner for Swiss universities and universities for applied scienc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533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Organisation TA-SWI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649600" y="1828800"/>
          <a:ext cx="40942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0" y="1828800"/>
                    <a:ext cx="40942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60948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Internal Organ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779560" y="1827360"/>
          <a:ext cx="43452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560" y="1827360"/>
                    <a:ext cx="43452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Overview of TA Activities in 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-447840" y="1927080"/>
          <a:ext cx="973296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47840" y="1927080"/>
                    <a:ext cx="973296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3T13:19:56Z</dcterms:created>
  <dc:creator>-</dc:creator>
  <dc:description/>
  <dc:language>en-US</dc:language>
  <cp:lastModifiedBy>若松征男</cp:lastModifiedBy>
  <cp:lastPrinted>2001-05-15T09:16:29Z</cp:lastPrinted>
  <dcterms:modified xsi:type="dcterms:W3CDTF">2004-06-30T02:23:02Z</dcterms:modified>
  <cp:revision>95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85130746</vt:r8>
  </property>
  <property fmtid="{D5CDD505-2E9C-101B-9397-08002B2CF9AE}" pid="3" name="_AuthorEmail">
    <vt:lpwstr>Gary.Fliszar@deza.admin.ch</vt:lpwstr>
  </property>
  <property fmtid="{D5CDD505-2E9C-101B-9397-08002B2CF9AE}" pid="4" name="_AuthorEmailDisplayName">
    <vt:lpwstr>Fliszar Gary DEZA FLG</vt:lpwstr>
  </property>
  <property fmtid="{D5CDD505-2E9C-101B-9397-08002B2CF9AE}" pid="5" name="_EmailSubject">
    <vt:lpwstr>040609Vortrag S. Bellucci  japan ins englische zu übersetzen_eng_FLG.ppt</vt:lpwstr>
  </property>
  <property fmtid="{D5CDD505-2E9C-101B-9397-08002B2CF9AE}" pid="6" name="_ReviewingToolsShownOnce">
    <vt:lpwstr/>
  </property>
</Properties>
</file>