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907588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716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5"/>
          </p:nvPr>
        </p:nvSpPr>
        <p:spPr>
          <a:xfrm>
            <a:off x="383832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704880" y="743040"/>
            <a:ext cx="5364000" cy="371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02880" y="4703760"/>
            <a:ext cx="50418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6"/>
          </p:nvPr>
        </p:nvSpPr>
        <p:spPr>
          <a:xfrm>
            <a:off x="-360" y="940752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7"/>
          </p:nvPr>
        </p:nvSpPr>
        <p:spPr>
          <a:xfrm>
            <a:off x="3838320" y="940752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DCF3AA0-6D59-4D5D-95F1-D68A485B9D8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704880" y="762120"/>
            <a:ext cx="5361120" cy="37116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02880" y="4702320"/>
            <a:ext cx="5041800" cy="44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3560" y="4794120"/>
            <a:ext cx="5432400" cy="48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1) TA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untersucht die sozialen, ökologischen und wirtschaftlichen Auswirkungen von neuen technologischen Verfahren und Produkte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Wichtig an dieser Definition sind die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verschiedenen Dimension, die berücksichtig werden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Das fördert ein interdiziplinär Ansat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uch wichtig an dieser Definition ist, dass wir nicht nur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echnologien als Produkt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betrachten (zum Beispiel ein Super-Computer), sondern auch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echnologischen Verfahren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(zum Beispiel Datensammlung und Datenauswertung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l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) TA befasst sich mit den verschiedenen Interessen und Sichtweisen (von Experten, Entscheidungsträger, betroffenen Gruppen etc.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n anderen Worten, TA ist umfassend und betrachtet ein Problem aus verschiedenen Sichtwinkel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706320" y="743040"/>
            <a:ext cx="5359680" cy="37098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02880" y="4700160"/>
            <a:ext cx="504180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) Mit dem Schwerpunktthema « Informationsgesellschaft » thematisiert und untersucht das ZTA die positiven und negativen Folgen der zunehmenden Informatisierung der Gesellschaf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706320" y="743040"/>
            <a:ext cx="5361120" cy="37116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02880" y="4702320"/>
            <a:ext cx="5041800" cy="44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) Die prioritäre Aufgabe des ZTA ist es, die politischen Entscheidungsträger zu berat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Ziel ist auch, die öffentliche Diskussion anzuregen, insbesondere durch die Medi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) Unsere Projekte entsprechen den Schwerpunkt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- Life scienc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- Informationsgesellschaft u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- Mobilität und Energi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) Meistens machen wir TA-Studien (wie zum Beispiel die heutige Studie über den gläsernen Kunde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ber wir machen auch partizipative Projekte, wie das PubliForu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25905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000" y="46206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25905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400" y="25905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46206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3400" y="46206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25905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9640" y="25905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280" y="25905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000" y="46206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9640" y="46206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280" y="46206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B0BC0F-ECE6-49DA-A8DC-A90BA848E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5000" y="25905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F45E55-3240-4998-AB5C-A878DEEC9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25905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C2B072-82A1-4B1E-B4A3-BADA4AEA6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000" y="25905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3400" y="25905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68B477-B8DD-418C-A295-EDAA9414D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83BD1F-8EE5-4164-BFB2-6487A1145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95000" y="990360"/>
            <a:ext cx="89154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7F9F43-A6B1-4F43-AF5E-7901F0907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000" y="25905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63400" y="25905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000" y="46206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7F96C7-1692-43F8-8D9B-6E6594C6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000" y="25905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000" y="25905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63400" y="25905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63400" y="46206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CA6F21-666D-4386-B2FD-295D84D0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25905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3400" y="25905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000" y="46206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1E86CF-EE2B-464E-9B52-976CB3BB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25905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000" y="46206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9E8CF7-5F71-41EA-A45A-38277A42D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25905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3400" y="25905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000" y="46206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63400" y="46206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F80669-A1D4-4445-9550-7720AE4C7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25905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9640" y="25905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24280" y="25905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5000" y="46206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09640" y="46206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524280" y="46206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9C1B0B-C5E9-46FD-A067-875878846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25905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25905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400" y="25905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000" y="990360"/>
            <a:ext cx="89154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25905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25905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" y="46206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25905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25905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3400" y="46206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25905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400" y="25905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46206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95360" y="304920"/>
            <a:ext cx="8915400" cy="533160"/>
          </a:xfrm>
          <a:prstGeom prst="rect">
            <a:avLst/>
          </a:prstGeom>
          <a:solidFill>
            <a:srgbClr val="ff86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5000" y="25905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75"/>
              </a:spcBef>
              <a:buClr>
                <a:srgbClr val="ff8601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75"/>
              </a:spcBef>
              <a:buClr>
                <a:srgbClr val="ff8601"/>
              </a:buClr>
              <a:buSzPct val="90000"/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75"/>
              </a:spcBef>
              <a:buClr>
                <a:srgbClr val="ff8601"/>
              </a:buClr>
              <a:buSzPct val="125000"/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75"/>
              </a:spcBef>
              <a:buClr>
                <a:srgbClr val="000000"/>
              </a:buClr>
              <a:buSzPct val="125000"/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75"/>
              </a:spcBef>
              <a:buClr>
                <a:srgbClr val="000000"/>
              </a:buClr>
              <a:buSzPct val="125000"/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95360" y="6477120"/>
            <a:ext cx="5829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146320" y="304920"/>
            <a:ext cx="4540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49680" y="1908000"/>
            <a:ext cx="897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TA-SWISS bold Kopie" descr=""/>
          <p:cNvPicPr/>
          <p:nvPr/>
        </p:nvPicPr>
        <p:blipFill>
          <a:blip r:embed="rId2"/>
          <a:stretch/>
        </p:blipFill>
        <p:spPr>
          <a:xfrm>
            <a:off x="8915400" y="304920"/>
            <a:ext cx="533520" cy="5331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311960" y="6248520"/>
            <a:ext cx="22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www.ta-swiss.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2680" y="1828440"/>
            <a:ext cx="84200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5C459-24A4-4E78-AD95-FED3DA2ED4DC}" type="datetime"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6/0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7098840" y="6248520"/>
            <a:ext cx="247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AE646-CD3D-4B91-821E-0184E546716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922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articipatory Technology Assessment:</a:t>
            </a:r>
            <a:br>
              <a:rPr sz="3800"/>
            </a:br>
            <a:r>
              <a:rPr b="1" lang="en-GB" sz="3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8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A Bridge between Science and Socie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040" y="4572000"/>
            <a:ext cx="76201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33520"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by 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433520"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Dr. Sergio Bellucci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433520"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Director TA-SWISS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TA highlights in the pa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6080" y="1709640"/>
            <a:ext cx="4179600" cy="263376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1676520"/>
            <a:ext cx="4191120" cy="2557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1676520"/>
            <a:ext cx="4114800" cy="29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5120" indent="-19512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Life Sci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A-study  «Functional Food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A-study «Human stem cells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A-study  «Xenotransplantation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A-study «Gene therapy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A-study  «Nanotechnology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4583160" y="1905120"/>
            <a:ext cx="5181120" cy="2206080"/>
            <a:chOff x="4583160" y="1905120"/>
            <a:chExt cx="5181120" cy="2206080"/>
          </a:xfrm>
        </p:grpSpPr>
        <p:sp>
          <p:nvSpPr>
            <p:cNvPr id="117" name=""/>
            <p:cNvSpPr/>
            <p:nvPr/>
          </p:nvSpPr>
          <p:spPr>
            <a:xfrm>
              <a:off x="4705200" y="1994400"/>
              <a:ext cx="5058720" cy="21168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83160" y="1905120"/>
              <a:ext cx="5093640" cy="2116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671000" y="1916640"/>
              <a:ext cx="5093280" cy="21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5120" indent="-19512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Information Socie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5120" indent="-19512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TA-study «Computer-based Patient Records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5120" indent="-19512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TA-study «The Transparent Customer»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5120" indent="-19512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TA-study «Pervasive Computing»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5120" indent="-19512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TA-book «Internet - Schöne neue Welt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334120" y="4419720"/>
            <a:ext cx="3809160" cy="1523160"/>
            <a:chOff x="5334120" y="4419720"/>
            <a:chExt cx="3809160" cy="1523160"/>
          </a:xfrm>
        </p:grpSpPr>
        <p:sp>
          <p:nvSpPr>
            <p:cNvPr id="121" name=""/>
            <p:cNvSpPr/>
            <p:nvPr/>
          </p:nvSpPr>
          <p:spPr>
            <a:xfrm>
              <a:off x="5414760" y="4479840"/>
              <a:ext cx="3728520" cy="146304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334120" y="4419720"/>
              <a:ext cx="3728160" cy="1463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5486400" y="4495680"/>
            <a:ext cx="350532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5120" indent="-19512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A-study „Technology Assessment and Transport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33520" y="4419720"/>
            <a:ext cx="4723560" cy="2285280"/>
            <a:chOff x="533520" y="4419720"/>
            <a:chExt cx="4723560" cy="2285280"/>
          </a:xfrm>
        </p:grpSpPr>
        <p:grpSp>
          <p:nvGrpSpPr>
            <p:cNvPr id="125" name=""/>
            <p:cNvGrpSpPr/>
            <p:nvPr/>
          </p:nvGrpSpPr>
          <p:grpSpPr>
            <a:xfrm>
              <a:off x="533520" y="4419720"/>
              <a:ext cx="4723560" cy="2285280"/>
              <a:chOff x="533520" y="4419720"/>
              <a:chExt cx="4723560" cy="2285280"/>
            </a:xfrm>
          </p:grpSpPr>
          <p:sp>
            <p:nvSpPr>
              <p:cNvPr id="126" name=""/>
              <p:cNvSpPr/>
              <p:nvPr/>
            </p:nvSpPr>
            <p:spPr>
              <a:xfrm>
                <a:off x="633960" y="4511160"/>
                <a:ext cx="4623120" cy="2193840"/>
              </a:xfrm>
              <a:prstGeom prst="roundRect">
                <a:avLst>
                  <a:gd name="adj" fmla="val 16667"/>
                </a:avLst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33520" y="4419720"/>
                <a:ext cx="4623120" cy="21938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533520" y="4511160"/>
              <a:ext cx="4475520" cy="19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5120" indent="-19512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participatory 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5120" indent="-19512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PubliForum «Transplantation Medicine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5120" indent="-19512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PubliForum «Genetic Engineering and Nutrition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5120" indent="-19512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publifocus «Human stem cells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Criteria for Selecting Top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915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88"/>
              </a:spcBef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Arial"/>
              </a:rPr>
              <a:t>Relevance, in view of: </a:t>
            </a:r>
            <a:r>
              <a:rPr b="0" lang="de-DE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500" spc="-1" strike="noStrike">
                <a:solidFill>
                  <a:srgbClr val="000000"/>
                </a:solidFill>
                <a:latin typeface="Arial"/>
              </a:rPr>
              <a:t>- pending political decisions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500" spc="-1" strike="noStrike">
                <a:solidFill>
                  <a:srgbClr val="000000"/>
                </a:solidFill>
                <a:latin typeface="Arial"/>
              </a:rPr>
              <a:t>- current research activitie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88"/>
              </a:spcBef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Arial"/>
              </a:rPr>
              <a:t>Degree of controversy involved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88"/>
              </a:spcBef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Arial"/>
              </a:rPr>
              <a:t>Impact (number of people affected) of the probable consequences of a given technology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88"/>
              </a:spcBef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Arial"/>
              </a:rPr>
              <a:t>Availability of foreign studie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361"/>
              </a:spcBef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Arial"/>
              </a:rPr>
              <a:t>Possible synergies with other activities of scientific or administrative</a:t>
            </a:r>
            <a:r>
              <a:rPr b="0" lang="de-DE" sz="2700" spc="-1" strike="noStrike">
                <a:solidFill>
                  <a:srgbClr val="000000"/>
                </a:solidFill>
                <a:latin typeface="Arial"/>
              </a:rPr>
              <a:t> bodies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95000" y="9907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000000"/>
                </a:solidFill>
                <a:latin typeface="Arial"/>
              </a:rPr>
              <a:t>Preconditions for Successful 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99136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lnSpc>
                <a:spcPct val="140000"/>
              </a:lnSpc>
              <a:spcBef>
                <a:spcPts val="751"/>
              </a:spcBef>
              <a:buClr>
                <a:srgbClr val="ff86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000" spc="-1" strike="noStrike">
                <a:solidFill>
                  <a:srgbClr val="000000"/>
                </a:solidFill>
                <a:latin typeface="Arial"/>
              </a:rPr>
              <a:t>Transparen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lnSpc>
                <a:spcPct val="140000"/>
              </a:lnSpc>
              <a:spcBef>
                <a:spcPts val="751"/>
              </a:spcBef>
              <a:buClr>
                <a:srgbClr val="ff86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000" spc="-1" strike="noStrike">
                <a:solidFill>
                  <a:srgbClr val="000000"/>
                </a:solidFill>
                <a:latin typeface="Arial"/>
              </a:rPr>
              <a:t>Institutional independ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lnSpc>
                <a:spcPct val="140000"/>
              </a:lnSpc>
              <a:spcBef>
                <a:spcPts val="751"/>
              </a:spcBef>
              <a:buClr>
                <a:srgbClr val="ff86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000" spc="-1" strike="noStrike">
                <a:solidFill>
                  <a:srgbClr val="000000"/>
                </a:solidFill>
                <a:latin typeface="Arial"/>
              </a:rPr>
              <a:t>Timely identification of topics and iss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5000" y="9907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000000"/>
                </a:solidFill>
                <a:latin typeface="Arial"/>
              </a:rPr>
              <a:t>Success Factors for 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991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lnSpc>
                <a:spcPct val="140000"/>
              </a:lnSpc>
              <a:spcBef>
                <a:spcPts val="751"/>
              </a:spcBef>
              <a:buClr>
                <a:srgbClr val="ff86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000" spc="-1" strike="noStrike">
                <a:solidFill>
                  <a:srgbClr val="000000"/>
                </a:solidFill>
                <a:latin typeface="Arial"/>
              </a:rPr>
              <a:t>Instituional Setting of TA Organis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lnSpc>
                <a:spcPct val="140000"/>
              </a:lnSpc>
              <a:spcBef>
                <a:spcPts val="751"/>
              </a:spcBef>
              <a:buClr>
                <a:srgbClr val="ff86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000" spc="-1" strike="noStrike">
                <a:solidFill>
                  <a:srgbClr val="000000"/>
                </a:solidFill>
                <a:latin typeface="Arial"/>
              </a:rPr>
              <a:t>Credi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lnSpc>
                <a:spcPct val="140000"/>
              </a:lnSpc>
              <a:spcBef>
                <a:spcPts val="751"/>
              </a:spcBef>
              <a:buClr>
                <a:srgbClr val="ff86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0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8915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TA-Products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9067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4760" indent="-374760">
              <a:lnSpc>
                <a:spcPct val="90000"/>
              </a:lnSpc>
              <a:spcBef>
                <a:spcPts val="675"/>
              </a:spcBef>
              <a:buClr>
                <a:srgbClr val="ff9e29"/>
              </a:buClr>
              <a:buSzPct val="110000"/>
              <a:buFont typeface="Arial"/>
              <a:buChar char="•"/>
              <a:tabLst>
                <a:tab algn="l" pos="362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Arial"/>
              </a:rPr>
              <a:t>TA-Reports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057480" indent="-285840">
              <a:lnSpc>
                <a:spcPct val="90000"/>
              </a:lnSpc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362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scientific repor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057480" indent="-285840">
              <a:lnSpc>
                <a:spcPct val="90000"/>
              </a:lnSpc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362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short vers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057480" indent="-285840">
              <a:lnSpc>
                <a:spcPct val="90000"/>
              </a:lnSpc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362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citizen repor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057480" indent="-285840">
              <a:lnSpc>
                <a:spcPct val="90000"/>
              </a:lnSpc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362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fact sheet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675"/>
              </a:spcBef>
              <a:buClr>
                <a:srgbClr val="ff9e29"/>
              </a:buClr>
              <a:buSzPct val="110000"/>
              <a:buFont typeface="Arial"/>
              <a:buChar char="•"/>
              <a:tabLst>
                <a:tab algn="l" pos="362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Arial"/>
              </a:rPr>
              <a:t>participatory TA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057480" indent="-285840">
              <a:lnSpc>
                <a:spcPct val="90000"/>
              </a:lnSpc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362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PubliForu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057480" indent="-285840">
              <a:lnSpc>
                <a:spcPct val="90000"/>
              </a:lnSpc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362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publifocu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057480" indent="-285840">
              <a:lnSpc>
                <a:spcPct val="90000"/>
              </a:lnSpc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362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PubliTalk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057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362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362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915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TA-Products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5000" y="1904760"/>
            <a:ext cx="8915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384280" indent="0">
              <a:lnSpc>
                <a:spcPct val="4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82760" indent="-482760">
              <a:spcBef>
                <a:spcPts val="675"/>
              </a:spcBef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Arial"/>
              </a:rPr>
              <a:t>TA-Events and communication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82760" indent="0">
              <a:lnSpc>
                <a:spcPct val="5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2384280" indent="-285480">
              <a:spcBef>
                <a:spcPts val="649"/>
              </a:spcBef>
              <a:buClr>
                <a:srgbClr val="ff8601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meetings with politici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2384280" indent="-285480">
              <a:spcBef>
                <a:spcPts val="649"/>
              </a:spcBef>
              <a:buClr>
                <a:srgbClr val="ff8601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public conferences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2384280" indent="-285480"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media conferenc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2384280" indent="-285480"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web-si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2384280" indent="-285480"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newslett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000" y="837720"/>
            <a:ext cx="8915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The PubliFor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95000" y="25905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914400" y="2438280"/>
            <a:ext cx="8077320" cy="368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000000"/>
                </a:solidFill>
                <a:latin typeface="Arial"/>
              </a:rPr>
              <a:t>PubliForum: Defi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9753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000000"/>
                </a:solidFill>
                <a:latin typeface="Arial"/>
              </a:rPr>
              <a:t>The PubliForum is a process involving about 30 lay citizens selected from the general public where they can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62040" indent="-274680">
              <a:lnSpc>
                <a:spcPct val="145000"/>
              </a:lnSpc>
              <a:spcBef>
                <a:spcPts val="2024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000000"/>
                </a:solidFill>
                <a:latin typeface="Arial"/>
              </a:rPr>
              <a:t>obtain information on a particular topic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62040" indent="-274680">
              <a:lnSpc>
                <a:spcPct val="75000"/>
              </a:lnSpc>
              <a:spcBef>
                <a:spcPts val="2024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000000"/>
                </a:solidFill>
                <a:latin typeface="Arial"/>
              </a:rPr>
              <a:t>select experts and take part in an </a:t>
            </a:r>
            <a:br>
              <a:rPr sz="2700"/>
            </a:br>
            <a:r>
              <a:rPr b="0" lang="de-CH" sz="2700" spc="-1" strike="noStrike">
                <a:solidFill>
                  <a:srgbClr val="000000"/>
                </a:solidFill>
                <a:latin typeface="Arial"/>
              </a:rPr>
              <a:t>active dialogue with them</a:t>
            </a:r>
            <a:r>
              <a:rPr b="0" lang="de-CH" sz="2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62040" indent="-274680">
              <a:lnSpc>
                <a:spcPct val="75000"/>
              </a:lnSpc>
              <a:spcBef>
                <a:spcPts val="2024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000000"/>
                </a:solidFill>
                <a:latin typeface="Arial"/>
              </a:rPr>
              <a:t>formulate recommendations and include </a:t>
            </a:r>
            <a:br>
              <a:rPr sz="2700"/>
            </a:br>
            <a:r>
              <a:rPr b="0" lang="de-CH" sz="2700" spc="-1" strike="noStrike">
                <a:solidFill>
                  <a:srgbClr val="000000"/>
                </a:solidFill>
                <a:latin typeface="Arial"/>
              </a:rPr>
              <a:t>them in the citizen repor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238880" y="3200400"/>
            <a:ext cx="2301840" cy="2895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000" y="99072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PubliForum: the prepa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700" spc="-1" strike="noStrike">
                <a:solidFill>
                  <a:srgbClr val="000000"/>
                </a:solidFill>
                <a:latin typeface="Arial"/>
              </a:rPr>
              <a:t>Constitution of the citizens pan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invitation sent to about 10’000 persons (randomly selected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selection of about 30 persons according to socio-demographic characteristics (age, sex, region, education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Arial"/>
              </a:rPr>
              <a:t>Fact sheets for the citizens pan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160" y="685800"/>
            <a:ext cx="8915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PubliForum: The main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Arial"/>
              </a:rPr>
              <a:t>Two preparatory week-ends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basic information on the issu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definition of the quest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choice of exper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Arial"/>
              </a:rPr>
              <a:t>PubliForum (4 days)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dialogue between lay panel and exper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the lay panel writes a repor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the lay panel presents the report + discuss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92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Swiss Center for Technology Assessment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A-SWIS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1840" y="2742840"/>
            <a:ext cx="87217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is affiliated to the Swiss Science and Technology Counci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has a mandate to support (political) decision making related to new technologies 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5000" y="837720"/>
            <a:ext cx="8915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PubliForum: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95000" y="2286000"/>
            <a:ext cx="8915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000000"/>
                </a:solidFill>
                <a:latin typeface="Arial"/>
              </a:rPr>
              <a:t>Recommandations for decision-makers (in politics, public administration, industry and research) on 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285840"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000000"/>
                </a:solidFill>
                <a:latin typeface="Arial"/>
              </a:rPr>
              <a:t>the general public´s preferences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285840"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000000"/>
                </a:solidFill>
                <a:latin typeface="Arial"/>
              </a:rPr>
              <a:t>their understanding of the </a:t>
            </a:r>
            <a:br>
              <a:rPr sz="2700"/>
            </a:br>
            <a:r>
              <a:rPr b="0" lang="de-CH" sz="2700" spc="-1" strike="noStrike">
                <a:solidFill>
                  <a:srgbClr val="000000"/>
                </a:solidFill>
                <a:latin typeface="Arial"/>
              </a:rPr>
              <a:t>problem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285840"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000000"/>
                </a:solidFill>
                <a:latin typeface="Arial"/>
              </a:rPr>
              <a:t>their hopes and fear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285840"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705720" y="3429000"/>
            <a:ext cx="2876400" cy="2895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bliForum: Particulariti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5000" y="182880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77920">
              <a:spcBef>
                <a:spcPts val="2188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ables the general public to be drawn into the debate on controversial technologies at an early stage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77920">
              <a:spcBef>
                <a:spcPts val="2188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sters dialogue between the general public and the experts, contributes to an informed public deba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77920">
              <a:spcBef>
                <a:spcPts val="2188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ides the population with a platform to express their expectations and concer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5000" y="837720"/>
            <a:ext cx="8915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000000"/>
                </a:solidFill>
                <a:latin typeface="Arial"/>
              </a:rPr>
              <a:t>Many PubliForu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95000" y="1752120"/>
            <a:ext cx="8915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1998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« Electricity and Society » </a:t>
            </a:r>
            <a:br>
              <a:rPr sz="2800"/>
            </a:b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1999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« Genetic engineering and Food »</a:t>
            </a:r>
            <a:br>
              <a:rPr sz="2800"/>
            </a:b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« Transplantation medicine »</a:t>
            </a:r>
            <a:br>
              <a:rPr sz="2800"/>
            </a:b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« Research involving human beings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000000"/>
                </a:solidFill>
                <a:latin typeface="Arial"/>
              </a:rPr>
              <a:t>publifocus: Defi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7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ies of discussions among citizens, modeled on «focus groups»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lnSpc>
                <a:spcPct val="80000"/>
              </a:lnSpc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uctured discussions based on prepared questions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lnSpc>
                <a:spcPct val="90000"/>
              </a:lnSpc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alogue conducted exclusively among citizens (randomly selected or among those persons directly concerned)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lnSpc>
                <a:spcPct val="90000"/>
              </a:lnSpc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organizers analyze the discussions (opinions, arguments) and publish a repor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blifocus: Prepa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9219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ruitment of participants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 algn="just">
              <a:lnSpc>
                <a:spcPct val="90000"/>
              </a:lnSpc>
              <a:spcBef>
                <a:spcPts val="601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y mail (randomly sent out invit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0000"/>
              </a:lnSpc>
              <a:spcBef>
                <a:spcPts val="601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a chosen organizat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cumentation for the participants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0000"/>
              </a:lnSpc>
              <a:spcBef>
                <a:spcPts val="499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rox. 10 Information fact-sheets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lection of one or two experts for an introduction to the topic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0000"/>
              </a:lnSpc>
              <a:spcBef>
                <a:spcPts val="601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oad vi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0000"/>
              </a:lnSpc>
              <a:spcBef>
                <a:spcPts val="601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ependent and neu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blifocus: Proced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95000" y="1828440"/>
            <a:ext cx="8915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tween 4 and 6 discussion groups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the different linguistic regions of Switzer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bout 15 participants in a discussion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roductory briefing followed by an approx. 2-hour discu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cussion led by a mod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diting and subsequent publication of a repor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signment given to a professional e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000000"/>
                </a:solidFill>
                <a:latin typeface="Arial"/>
              </a:rPr>
              <a:t>publifocus: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ticular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95000" y="25905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ff9e2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ilitates a compilation of contrasting and well-thought-out opinions on aspects of technology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ff9e2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ssibility of comparing different population groups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000000"/>
                </a:solidFill>
                <a:latin typeface="Arial"/>
              </a:rPr>
              <a:t>publifocus: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95360" y="1980720"/>
            <a:ext cx="9105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nsmits to the decision-makers (politicians, administration, research, industry, etc.) quality information concerning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opinions and the values of the population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ypical supporting arguments put fort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5000" y="9907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000000"/>
                </a:solidFill>
                <a:latin typeface="Arial"/>
              </a:rPr>
              <a:t>Two publifoci, soon a thi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st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ff9e2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em cell research (spring 2002)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ff9e2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-vitro fertilization (spring 2003)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ture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ff9e2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ad pricing (2004)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bliTalk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–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earch on human beings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ims and Obj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160" y="2286000"/>
            <a:ext cx="9048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ff9e29"/>
              </a:buClr>
              <a:buSzPct val="110000"/>
              <a:buFont typeface="Wingdings" charset="2"/>
              <a:buChar char=""/>
              <a:tabLst>
                <a:tab algn="l" pos="3139920"/>
                <a:tab algn="l" pos="6102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arning how young people think about certain aspects of research on human beings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3139920"/>
                <a:tab algn="l" pos="6102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ff9e29"/>
              </a:buClr>
              <a:buSzPct val="110000"/>
              <a:buFont typeface="Wingdings" charset="2"/>
              <a:buChar char=""/>
              <a:tabLst>
                <a:tab algn="l" pos="3139920"/>
                <a:tab algn="l" pos="6102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ising the awareness of youth and young adults for what the forthcoming Federal Law will say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3139920"/>
                <a:tab algn="l" pos="6102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ff9e29"/>
              </a:buClr>
              <a:buSzPct val="110000"/>
              <a:buFont typeface="Wingdings" charset="2"/>
              <a:buChar char=""/>
              <a:tabLst>
                <a:tab algn="l" pos="3139920"/>
                <a:tab algn="l" pos="6102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blication and dissemination of a comprehensive repor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9296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Swiss Center for Technology Assessment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A-SWIS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5920" y="2285640"/>
            <a:ext cx="89535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863"/>
              </a:spcBef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evaluates technologies using ”classical” TA studies involving scientific analysis and expert discussions (interdisciplinary studies)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863"/>
              </a:spcBef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evaluates technologies by participative methods (PubliForum</a:t>
            </a:r>
            <a:r>
              <a:rPr b="0" lang="fr-CH" sz="2700" spc="-1" strike="noStrike">
                <a:solidFill>
                  <a:srgbClr val="000000"/>
                </a:solidFill>
                <a:latin typeface="Arial"/>
              </a:rPr>
              <a:t>, publifocus, etc.</a:t>
            </a: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) involving the general public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863"/>
              </a:spcBef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communicates its results to decision makers and to the general public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bliTalk – Proced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09480" y="266688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5360" y="2057400"/>
            <a:ext cx="8800920" cy="32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parations (documentation, preliminary interviews, formulation of the questions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roduction with basic inform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cussion in 2 working groups; summary minutes drawn up by the youth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sentation of the results in plenary mee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000000"/>
                </a:solidFill>
                <a:latin typeface="Arial"/>
              </a:rPr>
              <a:t>PubliTalk – The Meth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9144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75"/>
              </a:spcBef>
              <a:buClr>
                <a:srgbClr val="ff9e29"/>
              </a:buClr>
              <a:buSzPct val="110000"/>
              <a:buFont typeface="Wingdings" charset="2"/>
              <a:buChar char=""/>
              <a:tabLst>
                <a:tab algn="l" pos="3139920"/>
                <a:tab algn="l" pos="6102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cus is on youth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75"/>
              </a:spcBef>
              <a:buClr>
                <a:srgbClr val="ff9e29"/>
              </a:buClr>
              <a:buSzPct val="110000"/>
              <a:buFont typeface="Wingdings" charset="2"/>
              <a:buChar char=""/>
              <a:tabLst>
                <a:tab algn="l" pos="3139920"/>
                <a:tab algn="l" pos="6102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roduced with a concrete case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75"/>
              </a:spcBef>
              <a:buClr>
                <a:srgbClr val="ff9e29"/>
              </a:buClr>
              <a:buSzPct val="110000"/>
              <a:buFont typeface="Wingdings" charset="2"/>
              <a:buChar char=""/>
              <a:tabLst>
                <a:tab algn="l" pos="3139920"/>
                <a:tab algn="l" pos="6102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erts provide background information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75"/>
              </a:spcBef>
              <a:buClr>
                <a:srgbClr val="ff9e29"/>
              </a:buClr>
              <a:buSzPct val="110000"/>
              <a:buFont typeface="Wingdings" charset="2"/>
              <a:buChar char=""/>
              <a:tabLst>
                <a:tab algn="l" pos="3139920"/>
                <a:tab algn="l" pos="6102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cussion in working groups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75"/>
              </a:spcBef>
              <a:buClr>
                <a:srgbClr val="ff9e29"/>
              </a:buClr>
              <a:buSzPct val="110000"/>
              <a:buFont typeface="Wingdings" charset="2"/>
              <a:buChar char=""/>
              <a:tabLst>
                <a:tab algn="l" pos="3139920"/>
                <a:tab algn="l" pos="6102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sentation and discussion of the results in a plenary meeting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75"/>
              </a:spcBef>
              <a:buClr>
                <a:srgbClr val="ff9e29"/>
              </a:buClr>
              <a:buSzPct val="110000"/>
              <a:buFont typeface="Wingdings" charset="2"/>
              <a:buChar char=""/>
              <a:tabLst>
                <a:tab algn="l" pos="3139920"/>
                <a:tab algn="l" pos="6102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mmary report compiled by the organizers 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5000" y="685800"/>
            <a:ext cx="8915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ubliTalk – </a:t>
            </a: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Results</a:t>
            </a:r>
            <a:r>
              <a:rPr b="0" lang="de-CH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266688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2362320"/>
            <a:ext cx="9296640" cy="26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sionsb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1687"/>
              </a:spcBef>
              <a:buClr>
                <a:srgbClr val="ff9e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outh/teachers applaud PubliTal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1687"/>
              </a:spcBef>
              <a:buClr>
                <a:srgbClr val="ff9e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outh are willing to participate in experiments provided there is: comprehensive information, independent consultative bod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Impacts of participatory </a:t>
            </a:r>
            <a:br>
              <a:rPr sz="4000"/>
            </a:b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TA projects (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95000" y="23623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>
                <a:solidFill>
                  <a:srgbClr val="000000"/>
                </a:solidFill>
                <a:latin typeface="Arial"/>
              </a:rPr>
              <a:t>PubliForum « Electricity and Society »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77920"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Contributed to the promotion of a new kind of dialogue between science and society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>
                <a:solidFill>
                  <a:srgbClr val="000000"/>
                </a:solidFill>
                <a:latin typeface="Arial"/>
              </a:rPr>
              <a:t>PubliForum « Genetic engineering and food »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77920"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The results have been mentionned in the Parliament (in commission and in the plenum), when the Federal Law on genetic engineering was discussed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95000" y="99072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Impacts of participatory </a:t>
            </a:r>
            <a:br>
              <a:rPr sz="4000"/>
            </a:b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TA projects (I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9296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900" spc="-1" strike="noStrike">
                <a:solidFill>
                  <a:srgbClr val="000000"/>
                </a:solidFill>
                <a:latin typeface="Arial"/>
              </a:rPr>
              <a:t>PubliForum on Transplantation medicine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78000" indent="-187560">
              <a:spcBef>
                <a:spcPts val="649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600" spc="-1" strike="noStrike">
                <a:solidFill>
                  <a:srgbClr val="000000"/>
                </a:solidFill>
                <a:latin typeface="Arial"/>
              </a:rPr>
              <a:t>Integration of the recommendations in the Federal Council´s submission to parliament on the Federal Law on Transplantation</a:t>
            </a:r>
            <a:br>
              <a:rPr sz="2600"/>
            </a:br>
            <a:r>
              <a:rPr b="0" lang="de-CH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78000" indent="-187560">
              <a:spcBef>
                <a:spcPts val="649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600" spc="-1" strike="noStrike">
                <a:solidFill>
                  <a:srgbClr val="000000"/>
                </a:solidFill>
                <a:latin typeface="Arial"/>
              </a:rPr>
              <a:t>Application by the St. Gall cantonal hospital for the setting-up of a department for the psychological care of those involved in a transplan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5000" y="99072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Impacts of participatory </a:t>
            </a:r>
            <a:br>
              <a:rPr sz="4000"/>
            </a:b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TA projects (II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95360" y="1905120"/>
            <a:ext cx="91058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900" spc="-1" strike="noStrike">
                <a:solidFill>
                  <a:srgbClr val="000000"/>
                </a:solidFill>
                <a:latin typeface="Arial"/>
              </a:rPr>
              <a:t>PubliForum on Transplantation medicine</a:t>
            </a:r>
            <a:r>
              <a:rPr b="0" lang="de-CH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-384120">
              <a:spcBef>
                <a:spcPts val="649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600" spc="-1" strike="noStrike">
                <a:solidFill>
                  <a:srgbClr val="000000"/>
                </a:solidFill>
                <a:latin typeface="Arial"/>
              </a:rPr>
              <a:t>TA-SWISS has been invited to present the results of the PubliForum to the Commission on Social Security and Health of the Assembly of St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Arial"/>
              </a:rPr>
              <a:t>Publifocus on stem cells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0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-384120">
              <a:spcBef>
                <a:spcPts val="649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art of the civil-society debate organized by the Foundation Science et Cité on stem cells (200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5000" y="99072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Impacts of participatory </a:t>
            </a:r>
            <a:br>
              <a:rPr sz="4000"/>
            </a:b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TA projects (IV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9106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Arial"/>
              </a:rPr>
              <a:t>Publifocus on in-vitro fertilization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377640"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Federal Administration is to take the results into consideration when deciding whether in-vitro fertilization is to be covered by the obligatory medical insurance policy or not</a:t>
            </a: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5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Arial"/>
              </a:rPr>
              <a:t>PubliForum on research involving human beings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377640">
              <a:spcBef>
                <a:spcPts val="649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A-SWISS will be invited to present the results to the relevant parliamentary commiss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9372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000000"/>
                </a:solidFill>
                <a:latin typeface="Arial"/>
              </a:rPr>
              <a:t>Role of participatory meth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5000" y="20570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de range of possible political roles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arly introduction of a theme into the political 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ition of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aluation of various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c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rect Roles also possible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stering dialogue between science and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ising consciousness of technology's social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Our objectives are . . .</a:t>
            </a: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40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6400" y="2057040"/>
            <a:ext cx="937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277920">
              <a:spcBef>
                <a:spcPts val="2024"/>
              </a:spcBef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0000"/>
                </a:solidFill>
                <a:latin typeface="Arial"/>
              </a:rPr>
              <a:t>to provide scientific reliable, interdisciplinary studies for target groups in order to improve public debate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1680" indent="-277920">
              <a:spcBef>
                <a:spcPts val="2024"/>
              </a:spcBef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0000"/>
                </a:solidFill>
                <a:latin typeface="Arial"/>
              </a:rPr>
              <a:t>to initiate a debate about technology at a pre-political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1680" indent="-277920">
              <a:spcBef>
                <a:spcPts val="2024"/>
              </a:spcBef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to support political decision-making by providing reliable, prospective and independant TA materials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Our objectives are . . .</a:t>
            </a: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40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9144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1680" indent="-277920"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to create platforms for a mutual dialogue between various groups by establishing participative forums (PubliForum, publifocus, PubliTalk)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1680" indent="-277920"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0000"/>
                </a:solidFill>
                <a:latin typeface="Arial"/>
              </a:rPr>
              <a:t>to enhance responsibility in R&amp;D</a:t>
            </a:r>
            <a:br>
              <a:rPr sz="2700"/>
            </a:br>
            <a:r>
              <a:rPr b="0" lang="de-DE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1680" indent="-277920"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0000"/>
                </a:solidFill>
                <a:latin typeface="Arial"/>
              </a:rPr>
              <a:t>to strengthen national and international TA-networks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Our vision is . .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9448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339"/>
              </a:spcBef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o seek public acceptance as </a:t>
            </a: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reliable, prospective and independant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A centre (national and international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339"/>
              </a:spcBef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o facilitate the dialogue between the scientific community and society at large on controversial issue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339"/>
              </a:spcBef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o integrate participatory TA in policy-making processes on science and technology issues (e.g. through parliamentary hearings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339"/>
              </a:spcBef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o become a useful and reliable partner for Swiss universities and universities for applied science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09480" y="533520"/>
            <a:ext cx="8229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Organisation TA-SWI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649600" y="1828800"/>
          <a:ext cx="4094280" cy="41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49600" y="1828800"/>
                    <a:ext cx="4094280" cy="41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5000" y="609480"/>
            <a:ext cx="8915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000000"/>
                </a:solidFill>
                <a:latin typeface="Arial"/>
              </a:rPr>
              <a:t>Internal Organis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779560" y="1827360"/>
          <a:ext cx="4345200" cy="459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9560" y="1827360"/>
                    <a:ext cx="4345200" cy="45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000000"/>
                </a:solidFill>
                <a:latin typeface="Arial"/>
              </a:rPr>
              <a:t>Overview of TA Activities in 200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-447840" y="1927080"/>
          <a:ext cx="9732960" cy="42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47840" y="1927080"/>
                    <a:ext cx="973296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13T13:19:56Z</dcterms:created>
  <dc:creator>-</dc:creator>
  <dc:description/>
  <dc:language>en-US</dc:language>
  <cp:lastModifiedBy>若松征男</cp:lastModifiedBy>
  <cp:lastPrinted>2001-05-15T09:16:29Z</cp:lastPrinted>
  <dcterms:modified xsi:type="dcterms:W3CDTF">2004-06-30T02:23:02Z</dcterms:modified>
  <cp:revision>95</cp:revision>
  <dc:subject/>
  <dc:title>Kein Folientite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685130746</vt:r8>
  </property>
  <property fmtid="{D5CDD505-2E9C-101B-9397-08002B2CF9AE}" pid="3" name="_AuthorEmail">
    <vt:lpwstr>Gary.Fliszar@deza.admin.ch</vt:lpwstr>
  </property>
  <property fmtid="{D5CDD505-2E9C-101B-9397-08002B2CF9AE}" pid="4" name="_AuthorEmailDisplayName">
    <vt:lpwstr>Fliszar Gary DEZA FLG</vt:lpwstr>
  </property>
  <property fmtid="{D5CDD505-2E9C-101B-9397-08002B2CF9AE}" pid="5" name="_EmailSubject">
    <vt:lpwstr>040609Vortrag S. Bellucci  japan ins englische zu übersetzen_eng_FLG.ppt</vt:lpwstr>
  </property>
  <property fmtid="{D5CDD505-2E9C-101B-9397-08002B2CF9AE}" pid="6" name="_ReviewingToolsShownOnce">
    <vt:lpwstr/>
  </property>
</Properties>
</file>