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5440" cy="6845400"/>
            <a:chOff x="0" y="0"/>
            <a:chExt cx="91454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26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15920"/>
              <a:ext cx="9145440" cy="6613560"/>
            </a:xfrm>
            <a:custGeom>
              <a:avLst/>
              <a:gdLst/>
              <a:ahLst/>
              <a:rect l="l" t="t" r="r" b="b"/>
              <a:pathLst>
                <a:path w="5761" h="4166">
                  <a:moveTo>
                    <a:pt x="5760" y="3889"/>
                  </a:moveTo>
                  <a:lnTo>
                    <a:pt x="1" y="3888"/>
                  </a:lnTo>
                  <a:lnTo>
                    <a:pt x="1" y="3948"/>
                  </a:lnTo>
                  <a:lnTo>
                    <a:pt x="5760" y="3948"/>
                  </a:lnTo>
                  <a:lnTo>
                    <a:pt x="5760" y="3996"/>
                  </a:lnTo>
                  <a:lnTo>
                    <a:pt x="1" y="3997"/>
                  </a:lnTo>
                  <a:lnTo>
                    <a:pt x="1" y="4056"/>
                  </a:lnTo>
                  <a:lnTo>
                    <a:pt x="5760" y="4056"/>
                  </a:lnTo>
                  <a:lnTo>
                    <a:pt x="5760" y="4105"/>
                  </a:lnTo>
                  <a:lnTo>
                    <a:pt x="1" y="4104"/>
                  </a:lnTo>
                  <a:lnTo>
                    <a:pt x="1" y="4165"/>
                  </a:lnTo>
                  <a:lnTo>
                    <a:pt x="5760" y="4165"/>
                  </a:lnTo>
                  <a:lnTo>
                    <a:pt x="5760" y="0"/>
                  </a:lnTo>
                  <a:lnTo>
                    <a:pt x="1" y="0"/>
                  </a:lnTo>
                  <a:lnTo>
                    <a:pt x="1" y="61"/>
                  </a:lnTo>
                  <a:lnTo>
                    <a:pt x="5760" y="60"/>
                  </a:lnTo>
                  <a:lnTo>
                    <a:pt x="5760" y="108"/>
                  </a:lnTo>
                  <a:lnTo>
                    <a:pt x="1" y="108"/>
                  </a:lnTo>
                  <a:lnTo>
                    <a:pt x="1" y="168"/>
                  </a:lnTo>
                  <a:lnTo>
                    <a:pt x="5760" y="169"/>
                  </a:lnTo>
                  <a:lnTo>
                    <a:pt x="5760" y="216"/>
                  </a:lnTo>
                  <a:lnTo>
                    <a:pt x="1" y="216"/>
                  </a:lnTo>
                  <a:lnTo>
                    <a:pt x="1" y="276"/>
                  </a:lnTo>
                  <a:lnTo>
                    <a:pt x="5760" y="277"/>
                  </a:lnTo>
                  <a:lnTo>
                    <a:pt x="5760" y="324"/>
                  </a:lnTo>
                  <a:lnTo>
                    <a:pt x="1" y="324"/>
                  </a:lnTo>
                  <a:lnTo>
                    <a:pt x="1" y="384"/>
                  </a:lnTo>
                  <a:lnTo>
                    <a:pt x="5760" y="384"/>
                  </a:lnTo>
                  <a:lnTo>
                    <a:pt x="5760" y="432"/>
                  </a:lnTo>
                  <a:lnTo>
                    <a:pt x="1" y="432"/>
                  </a:lnTo>
                  <a:lnTo>
                    <a:pt x="1" y="492"/>
                  </a:lnTo>
                  <a:lnTo>
                    <a:pt x="5760" y="493"/>
                  </a:lnTo>
                  <a:lnTo>
                    <a:pt x="5760" y="540"/>
                  </a:lnTo>
                  <a:lnTo>
                    <a:pt x="1" y="540"/>
                  </a:lnTo>
                  <a:lnTo>
                    <a:pt x="1" y="600"/>
                  </a:lnTo>
                  <a:lnTo>
                    <a:pt x="5760" y="600"/>
                  </a:lnTo>
                  <a:lnTo>
                    <a:pt x="5760" y="648"/>
                  </a:lnTo>
                  <a:lnTo>
                    <a:pt x="1" y="648"/>
                  </a:lnTo>
                  <a:lnTo>
                    <a:pt x="1" y="708"/>
                  </a:lnTo>
                  <a:lnTo>
                    <a:pt x="5760" y="709"/>
                  </a:lnTo>
                  <a:lnTo>
                    <a:pt x="5760" y="756"/>
                  </a:lnTo>
                  <a:lnTo>
                    <a:pt x="1" y="756"/>
                  </a:lnTo>
                  <a:lnTo>
                    <a:pt x="1" y="816"/>
                  </a:lnTo>
                  <a:lnTo>
                    <a:pt x="5760" y="817"/>
                  </a:lnTo>
                  <a:lnTo>
                    <a:pt x="5760" y="865"/>
                  </a:lnTo>
                  <a:lnTo>
                    <a:pt x="1" y="864"/>
                  </a:lnTo>
                  <a:lnTo>
                    <a:pt x="1" y="925"/>
                  </a:lnTo>
                  <a:lnTo>
                    <a:pt x="5760" y="925"/>
                  </a:lnTo>
                  <a:lnTo>
                    <a:pt x="5760" y="973"/>
                  </a:lnTo>
                  <a:lnTo>
                    <a:pt x="1" y="972"/>
                  </a:lnTo>
                  <a:lnTo>
                    <a:pt x="1" y="1032"/>
                  </a:lnTo>
                  <a:lnTo>
                    <a:pt x="5760" y="1033"/>
                  </a:lnTo>
                  <a:lnTo>
                    <a:pt x="5760" y="1080"/>
                  </a:lnTo>
                  <a:lnTo>
                    <a:pt x="1" y="1080"/>
                  </a:lnTo>
                  <a:lnTo>
                    <a:pt x="1" y="1140"/>
                  </a:lnTo>
                  <a:lnTo>
                    <a:pt x="5760" y="1140"/>
                  </a:lnTo>
                  <a:lnTo>
                    <a:pt x="5760" y="1188"/>
                  </a:lnTo>
                  <a:lnTo>
                    <a:pt x="1" y="1188"/>
                  </a:lnTo>
                  <a:lnTo>
                    <a:pt x="1" y="1248"/>
                  </a:lnTo>
                  <a:lnTo>
                    <a:pt x="5760" y="1248"/>
                  </a:lnTo>
                  <a:lnTo>
                    <a:pt x="5760" y="1296"/>
                  </a:lnTo>
                  <a:lnTo>
                    <a:pt x="1" y="1297"/>
                  </a:lnTo>
                  <a:lnTo>
                    <a:pt x="1" y="1357"/>
                  </a:lnTo>
                  <a:lnTo>
                    <a:pt x="5760" y="1356"/>
                  </a:lnTo>
                  <a:lnTo>
                    <a:pt x="5760" y="1404"/>
                  </a:lnTo>
                  <a:lnTo>
                    <a:pt x="1" y="1404"/>
                  </a:lnTo>
                  <a:lnTo>
                    <a:pt x="1" y="1465"/>
                  </a:lnTo>
                  <a:lnTo>
                    <a:pt x="5760" y="1464"/>
                  </a:lnTo>
                  <a:lnTo>
                    <a:pt x="5760" y="1512"/>
                  </a:lnTo>
                  <a:lnTo>
                    <a:pt x="1" y="1512"/>
                  </a:lnTo>
                  <a:lnTo>
                    <a:pt x="1" y="1572"/>
                  </a:lnTo>
                  <a:lnTo>
                    <a:pt x="5760" y="1572"/>
                  </a:lnTo>
                  <a:lnTo>
                    <a:pt x="5760" y="1620"/>
                  </a:lnTo>
                  <a:lnTo>
                    <a:pt x="1" y="1620"/>
                  </a:lnTo>
                  <a:lnTo>
                    <a:pt x="1" y="1680"/>
                  </a:lnTo>
                  <a:lnTo>
                    <a:pt x="5760" y="1681"/>
                  </a:lnTo>
                  <a:lnTo>
                    <a:pt x="5760" y="1728"/>
                  </a:lnTo>
                  <a:lnTo>
                    <a:pt x="1" y="1728"/>
                  </a:lnTo>
                  <a:lnTo>
                    <a:pt x="1" y="1789"/>
                  </a:lnTo>
                  <a:lnTo>
                    <a:pt x="5760" y="1789"/>
                  </a:lnTo>
                  <a:lnTo>
                    <a:pt x="5760" y="1836"/>
                  </a:lnTo>
                  <a:lnTo>
                    <a:pt x="1" y="1836"/>
                  </a:lnTo>
                  <a:lnTo>
                    <a:pt x="1" y="1896"/>
                  </a:lnTo>
                  <a:lnTo>
                    <a:pt x="5760" y="1896"/>
                  </a:lnTo>
                  <a:lnTo>
                    <a:pt x="5760" y="1944"/>
                  </a:lnTo>
                  <a:lnTo>
                    <a:pt x="1" y="1944"/>
                  </a:lnTo>
                  <a:lnTo>
                    <a:pt x="1" y="2005"/>
                  </a:lnTo>
                  <a:lnTo>
                    <a:pt x="5760" y="2004"/>
                  </a:lnTo>
                  <a:lnTo>
                    <a:pt x="5760" y="2052"/>
                  </a:lnTo>
                  <a:lnTo>
                    <a:pt x="1" y="2052"/>
                  </a:lnTo>
                  <a:lnTo>
                    <a:pt x="1" y="2113"/>
                  </a:lnTo>
                  <a:lnTo>
                    <a:pt x="5760" y="2112"/>
                  </a:lnTo>
                  <a:lnTo>
                    <a:pt x="5760" y="2161"/>
                  </a:lnTo>
                  <a:lnTo>
                    <a:pt x="1" y="2160"/>
                  </a:lnTo>
                  <a:lnTo>
                    <a:pt x="1" y="2220"/>
                  </a:lnTo>
                  <a:lnTo>
                    <a:pt x="5760" y="2220"/>
                  </a:lnTo>
                  <a:lnTo>
                    <a:pt x="5760" y="2268"/>
                  </a:lnTo>
                  <a:lnTo>
                    <a:pt x="1" y="2268"/>
                  </a:lnTo>
                  <a:lnTo>
                    <a:pt x="1" y="2328"/>
                  </a:lnTo>
                  <a:lnTo>
                    <a:pt x="5760" y="2328"/>
                  </a:lnTo>
                  <a:lnTo>
                    <a:pt x="5760" y="2376"/>
                  </a:lnTo>
                  <a:lnTo>
                    <a:pt x="1" y="2376"/>
                  </a:lnTo>
                  <a:lnTo>
                    <a:pt x="1" y="2437"/>
                  </a:lnTo>
                  <a:lnTo>
                    <a:pt x="5760" y="2436"/>
                  </a:lnTo>
                  <a:lnTo>
                    <a:pt x="5760" y="2484"/>
                  </a:lnTo>
                  <a:lnTo>
                    <a:pt x="1" y="2484"/>
                  </a:lnTo>
                  <a:lnTo>
                    <a:pt x="1" y="2545"/>
                  </a:lnTo>
                  <a:lnTo>
                    <a:pt x="5760" y="2545"/>
                  </a:lnTo>
                  <a:lnTo>
                    <a:pt x="5760" y="2592"/>
                  </a:lnTo>
                  <a:lnTo>
                    <a:pt x="1" y="2592"/>
                  </a:lnTo>
                  <a:lnTo>
                    <a:pt x="1" y="2652"/>
                  </a:lnTo>
                  <a:lnTo>
                    <a:pt x="5760" y="2652"/>
                  </a:lnTo>
                  <a:lnTo>
                    <a:pt x="5760" y="2700"/>
                  </a:lnTo>
                  <a:lnTo>
                    <a:pt x="1" y="2700"/>
                  </a:lnTo>
                  <a:lnTo>
                    <a:pt x="1" y="2761"/>
                  </a:lnTo>
                  <a:lnTo>
                    <a:pt x="5760" y="2760"/>
                  </a:lnTo>
                  <a:lnTo>
                    <a:pt x="5760" y="2808"/>
                  </a:lnTo>
                  <a:lnTo>
                    <a:pt x="1" y="2808"/>
                  </a:lnTo>
                  <a:lnTo>
                    <a:pt x="1" y="2868"/>
                  </a:lnTo>
                  <a:lnTo>
                    <a:pt x="5760" y="2868"/>
                  </a:lnTo>
                  <a:lnTo>
                    <a:pt x="5760" y="2917"/>
                  </a:lnTo>
                  <a:lnTo>
                    <a:pt x="0" y="2917"/>
                  </a:lnTo>
                  <a:lnTo>
                    <a:pt x="1" y="2977"/>
                  </a:lnTo>
                  <a:lnTo>
                    <a:pt x="5760" y="2976"/>
                  </a:lnTo>
                  <a:lnTo>
                    <a:pt x="5760" y="3024"/>
                  </a:lnTo>
                  <a:lnTo>
                    <a:pt x="1" y="3024"/>
                  </a:lnTo>
                  <a:lnTo>
                    <a:pt x="1" y="3084"/>
                  </a:lnTo>
                  <a:lnTo>
                    <a:pt x="5760" y="3084"/>
                  </a:lnTo>
                  <a:lnTo>
                    <a:pt x="5760" y="3132"/>
                  </a:lnTo>
                  <a:lnTo>
                    <a:pt x="1" y="3132"/>
                  </a:lnTo>
                  <a:lnTo>
                    <a:pt x="1" y="3192"/>
                  </a:lnTo>
                  <a:lnTo>
                    <a:pt x="5760" y="3192"/>
                  </a:lnTo>
                  <a:lnTo>
                    <a:pt x="5760" y="3240"/>
                  </a:lnTo>
                  <a:lnTo>
                    <a:pt x="1" y="3240"/>
                  </a:lnTo>
                  <a:lnTo>
                    <a:pt x="1" y="3301"/>
                  </a:lnTo>
                  <a:lnTo>
                    <a:pt x="5760" y="3300"/>
                  </a:lnTo>
                  <a:lnTo>
                    <a:pt x="5760" y="3348"/>
                  </a:lnTo>
                  <a:lnTo>
                    <a:pt x="1" y="3348"/>
                  </a:lnTo>
                  <a:lnTo>
                    <a:pt x="1" y="3408"/>
                  </a:lnTo>
                  <a:lnTo>
                    <a:pt x="5760" y="3409"/>
                  </a:lnTo>
                  <a:lnTo>
                    <a:pt x="5760" y="3457"/>
                  </a:lnTo>
                  <a:lnTo>
                    <a:pt x="1" y="3456"/>
                  </a:lnTo>
                  <a:lnTo>
                    <a:pt x="1" y="3517"/>
                  </a:lnTo>
                  <a:lnTo>
                    <a:pt x="5760" y="3516"/>
                  </a:lnTo>
                  <a:lnTo>
                    <a:pt x="5760" y="3565"/>
                  </a:lnTo>
                  <a:lnTo>
                    <a:pt x="1" y="3565"/>
                  </a:lnTo>
                  <a:lnTo>
                    <a:pt x="1" y="3624"/>
                  </a:lnTo>
                  <a:lnTo>
                    <a:pt x="5760" y="3625"/>
                  </a:lnTo>
                  <a:lnTo>
                    <a:pt x="5760" y="3673"/>
                  </a:lnTo>
                  <a:lnTo>
                    <a:pt x="1" y="3672"/>
                  </a:lnTo>
                  <a:lnTo>
                    <a:pt x="1" y="3733"/>
                  </a:lnTo>
                  <a:lnTo>
                    <a:pt x="5760" y="3733"/>
                  </a:lnTo>
                  <a:lnTo>
                    <a:pt x="5760" y="3781"/>
                  </a:lnTo>
                  <a:lnTo>
                    <a:pt x="1" y="3781"/>
                  </a:lnTo>
                  <a:lnTo>
                    <a:pt x="1" y="3841"/>
                  </a:lnTo>
                  <a:lnTo>
                    <a:pt x="5760" y="3841"/>
                  </a:lnTo>
                  <a:lnTo>
                    <a:pt x="5760" y="38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7600" y="2309400"/>
            <a:ext cx="7344000" cy="12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U.S. EXPERIENCE WITH PUBLIC PARTICIPATION AND DISPUTE RE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ames L. Creighton, Ph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ighton &amp; Creighton,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s Gatos, 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UBLIC PARTICIP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970s - Requirements in National Environmental Policy Act and other environmental cleanup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ency remains the ultimate decision ma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nimum procedural requirements def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equate information to 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ternatives consid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acts discl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-decision particip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VIRONMENTAL MEDIATION/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NSENSUS BUILD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reements” 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quires some mechanism for representation of inter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encies are parties to the agreement, not the sole decision ma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TRENDS: PUBLIC PARTICIP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mbedded in most governmental decision m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st effective agencies go beyond simply fulfilling requirements to “mandate-seek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encies go through cycles, highly supportive, then less interested, then highly suppor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RITIQUE OF PUBLIC PARTICIP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me agencies just fulfill procedural requirements – little impact on decision m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me people believe that agency retaining power is not “real” particip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RITIQUE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NSENSUS-BUILD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3055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ople who are “represented” don’t always believe they are adequately repres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me interests, e.g., “environmental community,” not well def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me parties unable to make binding 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equalities both in power and what people bring to the negotiating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ten requires an external authority to “bind” the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VERALL TREN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verlapping of public participation and dispute resolution – points on the same continu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sultants move back and forth between the two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oth currently in decline in the Federal sector under Bush Administration (also happened under Reagan Administr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HANGE IN THE ROL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F THE MANAG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ld view: Make a “sound” decision base on good science and a full assessment of costs and 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w view: Must also get a “mandate” that permits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gitimacy” implies both good science and public accep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formation-Providing Techniq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hibits/Displ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ture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reposi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/web p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lings - technical reports/ environmental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con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paper ins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d advertis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 k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service announc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er’s bur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eraction/Information Exchange Techniq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isory groups/task fo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tizen Jury/Consensus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ho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ls, surveys, questionnai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ory tele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38102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bisc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ls, surveys, questionnai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hear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re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-based conferenc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h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minal group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oan 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GREEMENT-SEEKING TECHNIQU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bitration – Non-Bi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bitration – Bi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sputes Review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gotiated Rulem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ni-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n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9375"/>
          <a:stretch/>
        </p:blipFill>
        <p:spPr>
          <a:xfrm>
            <a:off x="-1447920" y="-1127160"/>
            <a:ext cx="11974680" cy="81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>
            <a:off x="2509920" y="3362400"/>
            <a:ext cx="0" cy="4572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781680" y="3352680"/>
            <a:ext cx="0" cy="4572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153280" y="3352680"/>
            <a:ext cx="0" cy="45720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48080" y="3352680"/>
            <a:ext cx="0" cy="4572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1905120"/>
            <a:ext cx="19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roblem Definition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co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24240" y="2200320"/>
            <a:ext cx="19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dentif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lterna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38600" y="2185920"/>
            <a:ext cx="19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lterna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81880" y="2195640"/>
            <a:ext cx="19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ecision Ma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886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cision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886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cision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38257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cision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38098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cision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TYPICAL DECISION MAKING PROCE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3200400"/>
            <a:ext cx="17524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3200400"/>
            <a:ext cx="17524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3200400"/>
            <a:ext cx="2361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1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TYPICAL POINTS AT WHICH PUBLIC PARTICIPATION MAY BE REQUIRED</a:t>
            </a: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For </a:t>
            </a:r>
            <a:r>
              <a:rPr b="0" lang="en-US" sz="3200" spc="-1" strike="noStrike">
                <a:solidFill>
                  <a:srgbClr val="ff4146"/>
                </a:solidFill>
                <a:latin typeface="Arial"/>
                <a:ea typeface="ＭＳ Ｐゴシック"/>
              </a:rPr>
              <a:t>each step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in decision making process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3333600"/>
            <a:ext cx="73911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56440" y="4191120"/>
            <a:ext cx="16257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ques for involving public prior to dec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most importan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3989520"/>
            <a:ext cx="1911240" cy="29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ques for informing the public prior to pre-decision involv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4133880"/>
            <a:ext cx="2286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ques for maintaining visibility (particularly if this period is more than a few month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9960" y="4133880"/>
            <a:ext cx="178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ques to initiate this step/inform public of what occurred during the prior ste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295280" y="3352680"/>
            <a:ext cx="12960" cy="658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622760" y="269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924680" y="3352320"/>
            <a:ext cx="0" cy="762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95560" y="266256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540480" y="3386160"/>
            <a:ext cx="12600" cy="658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867120" y="3385800"/>
            <a:ext cx="0" cy="685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04840" y="1219320"/>
            <a:ext cx="125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tu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i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990720"/>
            <a:ext cx="149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dentify alternative ro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1028880"/>
            <a:ext cx="1486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valuate alternative ro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10320" y="129528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oute se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760" y="2286000"/>
            <a:ext cx="1676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wsletter announces study and invites people to attend open ho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029200"/>
            <a:ext cx="126684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pen Ho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838080" y="2057040"/>
            <a:ext cx="0" cy="343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905120" y="2133360"/>
            <a:ext cx="75960" cy="2819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380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600" y="12942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600" y="2086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3800" y="39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3800" y="39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057400"/>
            <a:ext cx="17524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057400"/>
            <a:ext cx="17524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2057400"/>
            <a:ext cx="2361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2057400"/>
            <a:ext cx="12952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304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 “SIMPLE” ROUTE SELECTION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04840" y="1219320"/>
            <a:ext cx="125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tu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i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990720"/>
            <a:ext cx="149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dentify alternative ro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1028880"/>
            <a:ext cx="1486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valuate alternative ro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10320" y="129528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oute se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6760" y="2286000"/>
            <a:ext cx="1676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wsletter announces study and invites people to attend open ho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5029200"/>
            <a:ext cx="126684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pen Ho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62440" y="2514600"/>
            <a:ext cx="1447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ublic workshop to identify ro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2742840" y="2133360"/>
            <a:ext cx="228600" cy="198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38080" y="2057040"/>
            <a:ext cx="0" cy="343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40384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dvertising and mailed invitations inviting participation in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905120" y="2133360"/>
            <a:ext cx="75960" cy="2819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581280" y="21337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380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600" y="12942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600" y="2086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3800" y="39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3800" y="39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2057400"/>
            <a:ext cx="17524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057400"/>
            <a:ext cx="17524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057400"/>
            <a:ext cx="2361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2057400"/>
            <a:ext cx="12952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304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 “SIMPLE” ROUTE SELECTION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04840" y="1219320"/>
            <a:ext cx="125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tu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i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990720"/>
            <a:ext cx="149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dentify alternative ro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1028880"/>
            <a:ext cx="1486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valuate alternative ro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10320" y="129528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oute se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760" y="2286000"/>
            <a:ext cx="1676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wsletter announces study and invites people to attend open ho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5029200"/>
            <a:ext cx="126684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pen Ho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10160" y="2514600"/>
            <a:ext cx="2019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ighborhood advisory committee evaluates alternative ro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62440" y="2514600"/>
            <a:ext cx="1447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ublic workshop to identify ro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2742840" y="2133360"/>
            <a:ext cx="228600" cy="198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838080" y="2057040"/>
            <a:ext cx="0" cy="343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33720" y="40384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dvertising and mailed invitations inviting participation in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905120" y="2133360"/>
            <a:ext cx="75960" cy="2819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581280" y="21337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380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600" y="12942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600" y="2086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3800" y="39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3800" y="39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2057400"/>
            <a:ext cx="17524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2057400"/>
            <a:ext cx="17524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2057400"/>
            <a:ext cx="2361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0" y="2057400"/>
            <a:ext cx="12952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304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 “SIMPLE” ROUTE SELECTION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49402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wsletter describes routes under consid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495680" y="2057400"/>
            <a:ext cx="76320" cy="2819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28600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04840" y="1219320"/>
            <a:ext cx="125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tu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i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990720"/>
            <a:ext cx="149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dentify alternative ro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1028880"/>
            <a:ext cx="1486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valuate alternative ro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10320" y="129528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oute se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6760" y="2286000"/>
            <a:ext cx="1676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wsletter announces study and invites people to attend open ho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5029200"/>
            <a:ext cx="126684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pen Ho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90920" y="2514600"/>
            <a:ext cx="2019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ighborhood advisory committee evaluates alternative ro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62440" y="2514600"/>
            <a:ext cx="1447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ublic workshop to identify ro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2742840" y="2133360"/>
            <a:ext cx="228600" cy="198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838080" y="2057040"/>
            <a:ext cx="0" cy="343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40384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dvertising and mailed invitations inviting participation in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905120" y="2133360"/>
            <a:ext cx="75960" cy="2819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72320" y="3314880"/>
            <a:ext cx="16477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wsletter announces advisory committee recommend-ation and invites participation in public mee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553080" y="2285640"/>
            <a:ext cx="22860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00680" y="2362320"/>
            <a:ext cx="1638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ublic com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eet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0120" y="3886200"/>
            <a:ext cx="1523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wsletter announces dec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8152920" y="2285640"/>
            <a:ext cx="304920" cy="1600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581280" y="21337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380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600" y="12942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600" y="2086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3800" y="39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3800" y="39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2057400"/>
            <a:ext cx="17524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2057400"/>
            <a:ext cx="17524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2057400"/>
            <a:ext cx="2361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0" y="2057400"/>
            <a:ext cx="12952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543800" y="2048040"/>
            <a:ext cx="0" cy="34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304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 “SIMPLE” ROUTE SELECTION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49402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wsletter describes routes under consid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495680" y="2057400"/>
            <a:ext cx="76320" cy="2819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52880" y="228600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WHAT DOES A PUBLIC PARTICIPATION PROGRAM LOOK LIKE?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lumbia River System Operations Review – </a:t>
            </a:r>
            <a:r>
              <a:rPr b="0" lang="en-US" sz="2800" spc="-1" strike="noStrike">
                <a:solidFill>
                  <a:srgbClr val="ffa040"/>
                </a:solidFill>
                <a:latin typeface="Arial"/>
                <a:ea typeface="ＭＳ Ｐゴシック"/>
              </a:rPr>
              <a:t>very large scale, mix of public comment and consensus see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nibel Island Wetlands Permit – </a:t>
            </a:r>
            <a:r>
              <a:rPr b="0" lang="en-US" sz="2800" spc="-1" strike="noStrike">
                <a:solidFill>
                  <a:srgbClr val="ffa040"/>
                </a:solidFill>
                <a:latin typeface="Arial"/>
                <a:ea typeface="ＭＳ Ｐゴシック"/>
              </a:rPr>
              <a:t>smaller scale, consensus-see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04920" y="449280"/>
            <a:ext cx="84582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533760" cy="2467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76201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Challeng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hink the operations of the entire Columbia River System and get agreement between government agencies on a future operating reg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adramous fisheries showing significant decl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4856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LUMBIA RIVER SY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YSTEM OPERATION REVI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457200" y="-1143000"/>
            <a:ext cx="11709360" cy="878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THE PLAY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encies: Bureau of Reclamation (irrigation water), Army Corps of Engineers (flood control), Bonneville Power Administration (hydro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ter: U.S. Fish &amp; Wildlife (endangered species, Marine Fisheries Service (commercial fisher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ur states: Oregon, Washington, Idaho, Monta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Major cities – Portland &amp; Seatt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gional Power Counc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ibal na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umerous environmental groups – “Ecotopi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chniques used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wsletters: Direct mail to 10,000 people – bi-month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ree rounds of workshops/meetings (about 10 meetings each round) – during scoping/identification of alternatives, alternatives review, selection of operating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ve working groups: Made up of representatives of agencies, tribes, and NGOs. Reviewed methodology and advised within their subject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er Review Panels: Made independent review of study methodolog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cision maker: Interagency Policy Committe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LUMBIA RIVER SYSTEM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YSTEM OPERATION REVIEW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gnificant ev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ed to consider new institutional arrangements (stakeholder workshops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claration of fisheries as “endangered species” – Fish agencies assume a dominant role in operations plann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igner” spec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reement reached on operating plan and mechanisms for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OLUMBIA RIVER SYSTEM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YSTEM OPERATION REVIEW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6553080" cy="4995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353376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ANIBEL ISLAND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WETLANDS PERMI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my Corps of Engineers must grant a permit for any development in a wetlands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nibel Island is a famous resort area in the State of Florida -  but also full of wetlan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00 individual permits a year – very cos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rps has the authority to grant a “general permi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901800" y="2188800"/>
            <a:ext cx="7340400" cy="374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strict Engineer established a panel representing all key stakeholders on is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ave them a choice: (1) Corps could write the terms of the permit; or (2) Panel could write the terms and he would sign them – if there was consensus in the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nel reached consensus on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strict Engineer issued the permit using their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mit in force for five years; no protests during the entire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ANIBEL ISLAND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WETLANDS PERMI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llow-U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65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strict Engineer tried the same approach in a large urban area (Mia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nel representing all inter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nel about ready to reach agreement, environmental groups showed up and demanded chan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sensus reached, including regional office of U.S. Environmental Protection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tional HQ of Environmental Protection Agency overruled the permi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ANIBEL ISLAND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WETLANDS PERMI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IGHLY EFFECTIVE PUBLIC PARTICIPATION PROGRAM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genuine opportunities to influence the dec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well integrated into the decision-mak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clearly defined expectation for what they hope to accomplish with the pub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targeted at those stakeholders most likely to see themselves as impacted by the dec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179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IGHLY EFFECTIVE PUBLIC PARTICIPATION PROGRAMS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 interested stakeholders in every step of decision making, not just the final s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lternative levels of participation based upon people’s level of interest, and reflecting the diversity of the people particip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into account the participation of internal stakeholders as well as external stakeh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 </a:t>
            </a:r>
            <a:br>
              <a:rPr sz="2400"/>
            </a:br>
            <a:r>
              <a:rPr b="0" lang="ja-JP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 </a:t>
            </a:r>
            <a:br>
              <a:rPr sz="2400"/>
            </a:br>
            <a:r>
              <a:rPr b="1" lang="ja-JP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 </a:t>
            </a:r>
            <a:br>
              <a:rPr sz="2400"/>
            </a:br>
            <a:r>
              <a:rPr b="0" lang="ja-JP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 know of no safe repository of the ultimate powers of society but the people themselves, and if we think them not enlightened enough to exercise their choice with a wholesome discretion, the remedy is not to remove their choice but to inform their discretion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”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 </a:t>
            </a:r>
            <a:br>
              <a:rPr sz="2800"/>
            </a:b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THOMAS JEFFERSON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609480" y="-1371600"/>
            <a:ext cx="12420360" cy="91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HOOSING BETWEEN TWO “GOODS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251160"/>
            <a:ext cx="1473120" cy="1168560"/>
          </a:xfrm>
          <a:prstGeom prst="ellipse">
            <a:avLst/>
          </a:prstGeom>
          <a:solidFill>
            <a:srgbClr val="ffff00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95400" y="3530520"/>
            <a:ext cx="138420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229280"/>
            <a:ext cx="1695600" cy="1711080"/>
          </a:xfrm>
          <a:prstGeom prst="ellipse">
            <a:avLst/>
          </a:prstGeom>
          <a:solidFill>
            <a:srgbClr val="e5405d"/>
          </a:solidFill>
          <a:ln w="507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08840" y="4788000"/>
            <a:ext cx="138420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75120" y="3540240"/>
            <a:ext cx="1398600" cy="2479680"/>
          </a:xfrm>
          <a:custGeom>
            <a:avLst/>
            <a:gdLst/>
            <a:ahLst/>
            <a:rect l="l" t="t" r="r" b="b"/>
            <a:pathLst>
              <a:path w="750" h="1150">
                <a:moveTo>
                  <a:pt x="348" y="0"/>
                </a:moveTo>
                <a:lnTo>
                  <a:pt x="0" y="1149"/>
                </a:lnTo>
                <a:lnTo>
                  <a:pt x="749" y="1149"/>
                </a:lnTo>
                <a:lnTo>
                  <a:pt x="348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58880" y="3038400"/>
            <a:ext cx="0" cy="20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4041720"/>
            <a:ext cx="0" cy="227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3280" y="3052800"/>
            <a:ext cx="4205520" cy="996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OLICY CHOICES ARE VALUES CHOIC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93280" y="4181400"/>
            <a:ext cx="13442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OO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98360" y="4229280"/>
            <a:ext cx="13442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OO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78200" y="1793520"/>
            <a:ext cx="487080" cy="49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04" y="20661"/>
                </a:moveTo>
                <a:arcTo wR="10800" hR="10800" stAng="3956045" swAng="2908499"/>
                <a:lnTo>
                  <a:pt x="10800" y="10800"/>
                </a:lnTo>
                <a:close/>
              </a:path>
              <a:path fill="none" w="21600" h="21600">
                <a:moveTo>
                  <a:pt x="15204" y="20661"/>
                </a:moveTo>
                <a:arcTo wR="10800" hR="10800" stAng="3956045" swAng="290849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57280" y="1777680"/>
            <a:ext cx="487080" cy="49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133" y="20693"/>
                </a:moveTo>
                <a:arcTo wR="10800" hR="10800" stAng="3980872" swAng="2879455"/>
                <a:lnTo>
                  <a:pt x="10800" y="10800"/>
                </a:lnTo>
                <a:close/>
              </a:path>
              <a:path fill="none" w="21600" h="21600">
                <a:moveTo>
                  <a:pt x="15133" y="20693"/>
                </a:moveTo>
                <a:arcTo wR="10800" hR="10800" stAng="3980872" swAng="287945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19800" y="1777680"/>
            <a:ext cx="487080" cy="49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04" y="20661"/>
                </a:moveTo>
                <a:arcTo wR="10800" hR="10800" stAng="3956045" swAng="2908499"/>
                <a:lnTo>
                  <a:pt x="10800" y="10800"/>
                </a:lnTo>
                <a:close/>
              </a:path>
              <a:path fill="none" w="21600" h="21600">
                <a:moveTo>
                  <a:pt x="15204" y="20661"/>
                </a:moveTo>
                <a:arcTo wR="10800" hR="10800" stAng="3956045" swAng="290849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00400" y="4968720"/>
            <a:ext cx="47847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licy</a:t>
            </a:r>
            <a:r>
              <a:rPr b="1" lang="en-US" sz="3000" spc="-1" strike="noStrike">
                <a:solidFill>
                  <a:srgbClr val="ffffff"/>
                </a:solidFill>
                <a:latin typeface="Palatino"/>
                <a:ea typeface="ＭＳ Ｐゴシック"/>
              </a:rPr>
              <a:t>  </a:t>
            </a:r>
            <a:r>
              <a:rPr b="1" lang="en-US" sz="3000" spc="-1" strike="noStrike">
                <a:solidFill>
                  <a:srgbClr val="003530"/>
                </a:solidFill>
                <a:latin typeface="Palatino"/>
                <a:ea typeface="ＭＳ Ｐゴシック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licy</a:t>
            </a:r>
            <a:r>
              <a:rPr b="1" lang="en-US" sz="3000" spc="-1" strike="noStrike">
                <a:solidFill>
                  <a:srgbClr val="ffffff"/>
                </a:solidFill>
                <a:latin typeface="Palatino"/>
                <a:ea typeface="ＭＳ Ｐゴシック"/>
              </a:rPr>
              <a:t>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lic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50400" y="5442120"/>
            <a:ext cx="4572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07040" y="5411880"/>
            <a:ext cx="455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88880" y="5470560"/>
            <a:ext cx="4572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65200" y="2077920"/>
            <a:ext cx="6424560" cy="2084400"/>
          </a:xfrm>
          <a:custGeom>
            <a:avLst/>
            <a:gdLst/>
            <a:ahLst/>
            <a:rect l="l" t="t" r="r" b="b"/>
            <a:pathLst>
              <a:path w="4047" h="1313">
                <a:moveTo>
                  <a:pt x="0" y="0"/>
                </a:moveTo>
                <a:lnTo>
                  <a:pt x="0" y="1312"/>
                </a:lnTo>
                <a:lnTo>
                  <a:pt x="4046" y="131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14560" y="2046240"/>
            <a:ext cx="47520" cy="17640"/>
          </a:xfrm>
          <a:custGeom>
            <a:avLst/>
            <a:gdLst/>
            <a:ahLst/>
            <a:rect l="l" t="t" r="r" b="b"/>
            <a:pathLst>
              <a:path w="30" h="11">
                <a:moveTo>
                  <a:pt x="0" y="0"/>
                </a:moveTo>
                <a:lnTo>
                  <a:pt x="29" y="0"/>
                </a:lnTo>
                <a:lnTo>
                  <a:pt x="29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2057400"/>
            <a:ext cx="6408720" cy="2100240"/>
          </a:xfrm>
          <a:custGeom>
            <a:avLst/>
            <a:gdLst/>
            <a:ahLst/>
            <a:rect l="l" t="t" r="r" b="b"/>
            <a:pathLst>
              <a:path w="4037" h="1323">
                <a:moveTo>
                  <a:pt x="0" y="0"/>
                </a:moveTo>
                <a:lnTo>
                  <a:pt x="4036" y="0"/>
                </a:lnTo>
                <a:lnTo>
                  <a:pt x="4036" y="132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6b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3640" y="2133720"/>
            <a:ext cx="644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3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3640" y="3730680"/>
            <a:ext cx="644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Palatino"/>
                <a:ea typeface="ＭＳ Ｐゴシック"/>
              </a:rPr>
              <a:t>7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1560" y="2133720"/>
            <a:ext cx="644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87880" y="3746520"/>
            <a:ext cx="644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Palatino"/>
                <a:ea typeface="ＭＳ Ｐゴシック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4040" y="2133720"/>
            <a:ext cx="644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7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14800" y="3784680"/>
            <a:ext cx="644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Palatino"/>
                <a:ea typeface="ＭＳ Ｐゴシック"/>
              </a:rPr>
              <a:t>3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971800" y="41911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495680" y="419112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172200" y="419112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WHAT DOES IT TAKE FOR A DECISION TO COU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09480" y="2590920"/>
            <a:ext cx="7643880" cy="2509920"/>
            <a:chOff x="609480" y="2590920"/>
            <a:chExt cx="7643880" cy="2509920"/>
          </a:xfrm>
        </p:grpSpPr>
        <p:sp>
          <p:nvSpPr>
            <p:cNvPr id="79" name=""/>
            <p:cNvSpPr/>
            <p:nvPr/>
          </p:nvSpPr>
          <p:spPr>
            <a:xfrm>
              <a:off x="744480" y="3988080"/>
              <a:ext cx="0" cy="77760"/>
            </a:xfrm>
            <a:prstGeom prst="line">
              <a:avLst/>
            </a:prstGeom>
            <a:ln w="2556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9480" y="2610000"/>
              <a:ext cx="2722680" cy="1392120"/>
            </a:xfrm>
            <a:prstGeom prst="ellipse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09920" y="2590920"/>
              <a:ext cx="2579760" cy="1444680"/>
            </a:xfrm>
            <a:prstGeom prst="ellipse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10280" y="2608560"/>
              <a:ext cx="2620800" cy="1444320"/>
            </a:xfrm>
            <a:prstGeom prst="ellipse">
              <a:avLst/>
            </a:prstGeom>
            <a:solidFill>
              <a:srgbClr val="fcd1c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55800" y="2922840"/>
              <a:ext cx="151740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900" spc="-1" strike="noStrike">
                  <a:solidFill>
                    <a:srgbClr val="003530"/>
                  </a:solidFill>
                  <a:latin typeface="Arial"/>
                  <a:ea typeface="ＭＳ Ｐゴシック"/>
                </a:rPr>
                <a:t>     </a:t>
              </a:r>
              <a:r>
                <a:rPr b="1" lang="en-US" sz="1900" spc="-1" strike="noStrike">
                  <a:solidFill>
                    <a:srgbClr val="003530"/>
                  </a:solidFill>
                  <a:latin typeface="Arial"/>
                  <a:ea typeface="ＭＳ Ｐゴシック"/>
                </a:rPr>
                <a:t>Public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55800" y="3176640"/>
              <a:ext cx="18478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530"/>
                  </a:solidFill>
                  <a:latin typeface="Arial"/>
                  <a:ea typeface="ＭＳ Ｐゴシック"/>
                </a:rPr>
                <a:t>Informatio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85960" y="2854440"/>
              <a:ext cx="192888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9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1900" spc="-1" strike="noStrike">
                  <a:solidFill>
                    <a:srgbClr val="003530"/>
                  </a:solidFill>
                  <a:latin typeface="Arial"/>
                  <a:ea typeface="ＭＳ Ｐゴシック"/>
                </a:rPr>
                <a:t>Procedural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85960" y="3108600"/>
              <a:ext cx="159876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9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      </a:t>
              </a:r>
              <a:r>
                <a:rPr b="1" lang="en-US" sz="1900" spc="-1" strike="noStrike">
                  <a:solidFill>
                    <a:srgbClr val="003530"/>
                  </a:solidFill>
                  <a:latin typeface="Arial"/>
                  <a:ea typeface="ＭＳ Ｐゴシック"/>
                </a:rPr>
                <a:t>Public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5960" y="3364200"/>
              <a:ext cx="19479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530"/>
                  </a:solidFill>
                  <a:latin typeface="Arial"/>
                  <a:ea typeface="ＭＳ Ｐゴシック"/>
                </a:rPr>
                <a:t>Participatio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37080" y="2820960"/>
              <a:ext cx="191304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530"/>
                  </a:solidFill>
                  <a:latin typeface="Arial"/>
                  <a:ea typeface="ＭＳ Ｐゴシック"/>
                </a:rPr>
                <a:t>Mandate-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37080" y="3075120"/>
              <a:ext cx="168264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900" spc="-1" strike="noStrike">
                  <a:solidFill>
                    <a:srgbClr val="00353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1900" spc="-1" strike="noStrike">
                  <a:solidFill>
                    <a:srgbClr val="003530"/>
                  </a:solidFill>
                  <a:latin typeface="Arial"/>
                  <a:ea typeface="ＭＳ Ｐゴシック"/>
                </a:rPr>
                <a:t>Seeking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37080" y="3329280"/>
              <a:ext cx="151776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900" spc="-1" strike="noStrike">
                  <a:solidFill>
                    <a:srgbClr val="003530"/>
                  </a:solidFill>
                  <a:latin typeface="Arial"/>
                  <a:ea typeface="ＭＳ Ｐゴシック"/>
                </a:rPr>
                <a:t>     </a:t>
              </a:r>
              <a:r>
                <a:rPr b="1" lang="en-US" sz="1900" spc="-1" strike="noStrike">
                  <a:solidFill>
                    <a:srgbClr val="003530"/>
                  </a:solidFill>
                  <a:latin typeface="Arial"/>
                  <a:ea typeface="ＭＳ Ｐゴシック"/>
                </a:rPr>
                <a:t>Public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37080" y="3583080"/>
              <a:ext cx="19479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530"/>
                  </a:solidFill>
                  <a:latin typeface="Arial"/>
                  <a:ea typeface="ＭＳ Ｐゴシック"/>
                </a:rPr>
                <a:t>Participatio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21320" y="3075120"/>
              <a:ext cx="183204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530"/>
                  </a:solidFill>
                  <a:latin typeface="Arial"/>
                  <a:ea typeface="ＭＳ Ｐゴシック"/>
                </a:rPr>
                <a:t>Alternative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21320" y="3329280"/>
              <a:ext cx="138780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530"/>
                  </a:solidFill>
                  <a:latin typeface="Arial"/>
                  <a:ea typeface="ＭＳ Ｐゴシック"/>
                </a:rPr>
                <a:t>Dispute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21320" y="3583080"/>
              <a:ext cx="17481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530"/>
                  </a:solidFill>
                  <a:latin typeface="Arial"/>
                  <a:ea typeface="ＭＳ Ｐゴシック"/>
                </a:rPr>
                <a:t>Resolutio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1800" y="4125960"/>
              <a:ext cx="229068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BE INFORMED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1800" y="4381560"/>
              <a:ext cx="138744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OF THE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72000" y="4143600"/>
              <a:ext cx="17650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BE HEARD BEFORE THE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89360" y="4143600"/>
              <a:ext cx="199548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INFLUENCE THE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38960" y="4143600"/>
              <a:ext cx="176544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AGREE TO THE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56640" y="4673520"/>
            <a:ext cx="134424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ECIS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6480" y="4711680"/>
            <a:ext cx="1344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ECIS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4200" y="4689360"/>
            <a:ext cx="1344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ECIS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63440" y="4711680"/>
            <a:ext cx="1344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ECIS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84800" y="2755800"/>
            <a:ext cx="2489400" cy="1471680"/>
          </a:xfrm>
          <a:prstGeom prst="ellipse">
            <a:avLst/>
          </a:prstGeom>
          <a:solidFill>
            <a:srgbClr val="ffc5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30920" y="2859120"/>
            <a:ext cx="157752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530"/>
                </a:solidFill>
                <a:latin typeface="Arial"/>
                <a:ea typeface="ＭＳ Ｐゴシック"/>
              </a:rPr>
              <a:t>Negotiation/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530"/>
                </a:solidFill>
                <a:latin typeface="Arial"/>
                <a:ea typeface="ＭＳ Ｐゴシック"/>
              </a:rPr>
              <a:t>Alternativ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530"/>
                </a:solidFill>
                <a:latin typeface="Arial"/>
                <a:ea typeface="ＭＳ Ｐゴシック"/>
              </a:rPr>
              <a:t>Disput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530"/>
                </a:solidFill>
                <a:latin typeface="Arial"/>
                <a:ea typeface="ＭＳ Ｐゴシック"/>
              </a:rPr>
              <a:t>Resolut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5638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ed Consen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638680" y="51055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114800"/>
            <a:ext cx="7848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WHY “PARTICIPATION”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OT CO-DECISIONMAK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ountability to elected offic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gal constraints &amp; contractual oblig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ndates &amp; auth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“public” that chooses to participate may achieve consensus because it isn’t paying th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ople who choose to participate are self-sele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metimes fundamental disagreement in pub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FOUR APPROACHES FROM LATE 1960s – 1970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 particip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vironmental mediation, which becomes alternative dispute resolution, then consensus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chnology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cial impact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1T08:36:21Z</dcterms:created>
  <dc:creator>C &amp; C</dc:creator>
  <dc:description/>
  <dc:language>en-US</dc:language>
  <cp:lastModifiedBy>若松征男</cp:lastModifiedBy>
  <dcterms:modified xsi:type="dcterms:W3CDTF">2004-06-30T02:19:25Z</dcterms:modified>
  <cp:revision>24</cp:revision>
  <dc:subject/>
  <dc:title>A Facilitator:</dc:title>
</cp:coreProperties>
</file>